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614-E489-4E62-865C-07F5F340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9B8-769B-44E8-AD11-D936AE3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08B-374E-49B6-8E27-FCE25D87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54C-D5A4-425B-BEA2-44D03EC9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69CC-EFD3-4E1E-A0DC-B6FE2248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879C-49CC-4F3B-B730-0FB2495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51A1-F6F7-4BD5-9862-32D2AC1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A10-FB1F-49B4-863D-32B40B52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B4AA-D2E8-4B4D-BFC5-A4F42B4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BE0D-B291-4DE5-9CB5-A1CF19D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D088-A246-4389-8149-85C809C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738-C699-4611-89FB-E92271B4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9EEA-9F1F-4591-89E4-71DA2CA8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3EAD-AD44-4D67-B272-D6C540B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BD9E-8D3A-43E2-822D-3EE74E7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A3C-7AC0-4980-BD9B-FCA2935B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86D0-6F62-417B-A5E1-1BEDB278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288-61E4-4BCF-BDAF-F53E1012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77D-9401-44E7-8743-FFE836D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DFD-DBFE-40CC-849D-5F8622B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036-EF60-4B05-9941-1CEF941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A9A-7378-4A2A-82CE-2BB4C3EA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D4E-3688-4F1C-8C58-BDE91CD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104-44C7-4848-9CE9-F5ECC02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F8EF-B47F-4A30-AAFC-4B18F79C77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9DC-29CF-440A-B258-E9834131F0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жарная безопасност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9320"/>
            <a:ext cx="812160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работки и формирования фрагмента пояснительной записки ПОС и ППР в части мероприятий по противопожарной защи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ам пожарной безопасности на строящемся объекте; пожарная безопасность зданий и сооружений; системы противопожарной защиты; пожарная безопасность при проведении строительно-монтажных работ; требования к проведению пожароопасных работ; обеспечение безопасности людей при возникновении пожара; ответственность за организацию противопожарной защи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9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93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47894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6480" y="1343160"/>
            <a:ext cx="74246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0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579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322280" y="1347840"/>
            <a:ext cx="694224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4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183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46320" y="1380960"/>
            <a:ext cx="6949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922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24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противопожарной защите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79480" y="139392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39:52Z</dcterms:modified>
  <cp:revision>255</cp:revision>
  <dc:subject/>
  <dc:title>Слайд 1</dc:title>
</cp:coreProperties>
</file>