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F4F0-2049-4579-BCF1-20BFD2FF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2738-AF06-4A6B-812B-65546303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4520-6259-4408-8661-F0A5BF066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CF2F-B162-4F9D-8EEE-86040A5C3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D8E5-A8E5-4B47-B522-F2EA934EE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7E5E-4884-4501-B107-C95644A3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7265-5E2F-4B7F-8356-C9596DB9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A2B9-CF9B-44B2-A8FB-2B70BA66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F25A-95FC-4467-97EB-D8540E84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0DB7-C0DB-40CE-8B48-E1C4EC8E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BF2B-E156-4E84-8299-5CE6365C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AEA8-5167-40C4-A2B7-935487C9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A135-5E4D-4372-A369-BE5B58E0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EE9A-F1BB-4F7F-AE97-4B5B6C23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DD19-3FBA-4F6A-A615-066322DA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C00D-298F-4375-A536-7C43DEDA1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A27F-8620-4C1C-89F8-6F130E7B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1B83-23B1-4844-B060-0611049D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9B3C-8871-4B93-9D6E-4ABDE221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46A3-3D1A-4BEE-BC62-79388E6E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3A14-9FAE-4460-8429-9A9E5404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2C3F-5C16-461D-9D2D-F3585DAF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83FB-8061-43C3-AA05-CDD988BB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C99D-1A9D-4293-BE50-466DDE79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6904-CEEC-4629-8324-EDBCA9E07A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7796-2C74-4E44-9C34-3A149D871F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Схемы складирования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28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размещения на чертеже принятых схем складирования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Используемые схемы соответствуют нормативным требованиям техники  безопасности к складированию отдельных видов строительных конструкций и материалов открытого хранения, а также требованиям пожарной безопасности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Для определения потребности в площадях для складирования материалов и изделий, оборудования и машин можно воспользоваться модулем 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</a:t>
            </a: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Складские площадк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803160" y="567216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Главное окно программного модуля позволяет вставить в чертеж выбранную схему порядка складирова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785960" y="985680"/>
            <a:ext cx="5981760" cy="447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схемы складирования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2098800" y="1641600"/>
            <a:ext cx="5376600" cy="4427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04-13T14:14:46Z</dcterms:modified>
  <cp:revision>271</cp:revision>
  <dc:subject/>
  <dc:title>Слайд 1</dc:title>
</cp:coreProperties>
</file>