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8985-DAD6-4337-A36D-873E60C6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144B-EDFD-4ED3-BBB6-400AFBC6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A266-637C-4810-B593-45CEC398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26F4-7DAA-4CEE-A264-263DA598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18FB-2128-4784-B739-9D315E4C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B13A-C729-4792-9670-C099839C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5098-7260-44B7-9268-624F1AC6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DABB-8E19-43D6-B823-913FD1EB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D0BD-3B93-4730-9661-93177AD3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3AF9-8BB0-4141-BCC5-ADA097FF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193D-4548-409B-97D6-3D546087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B7DF-3B49-4124-A64A-8ED99638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F525-D8C2-4BBF-9CDD-A148DCF5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7ECA-D1F8-4E88-A901-256C6852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91BD-D5F8-4D9C-8F00-A9260218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2E34-C733-461A-ADE2-935D3BB2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CFAF-9D3C-49A9-82FB-4B0225C5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FD3D-6845-4A1E-9697-CFD2B63C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1828-A2C2-4F3F-AEB6-913F8C1E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8C45-C2EC-43B3-A411-4A394840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EDD2-0D9C-4B18-B725-98B38471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0E06-66D9-44B2-B7A2-77A8AC2A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2F0C-6F3B-4118-8354-7D8B41D9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AECD-EA1C-424D-BA0E-E12FF207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53B8-D1FA-447F-AA48-166F26DD07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7BE0-EB64-46D0-8C24-54426BB03B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ыбор кранов-трубоукладчиков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выбора крана-трубоукладчика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графических изображений выбранного крана-трубоукладчика в видах сбоку, спереди и в плане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графика грузоподъемности выбранного крана-трубоукладчик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3040" y="591516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Краны-трубоукладчики выбираются из списка техники. На чертеже можно построить изображения выбранного трубоукладчика в различных проекциях, а также график грузоподъемно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311560" y="952560"/>
            <a:ext cx="4613040" cy="48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1600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я крана-трубоукладчика на чертеже в различных проекциях и графика грузоподъемност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2135160" y="1603440"/>
            <a:ext cx="5419800" cy="485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7T13:18:25Z</dcterms:modified>
  <cp:revision>239</cp:revision>
  <dc:subject/>
  <dc:title>Слайд 1</dc:title>
</cp:coreProperties>
</file>