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AFB-FEAA-44CD-92DB-A75ABA11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CDE-D02F-472B-8844-E0ED267A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340-C0D0-4C9D-AA39-93633E9F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417-B48A-472D-BAF3-F655853A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32C2-2CF6-47A0-A51A-6771F592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B5B4-C5E3-4F23-A4C8-7F34E92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DDE4-0D39-4D48-B98F-989B79A0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9D07-7B2D-411F-A8F0-D9D0B15E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0139-3004-40C5-901D-891878F5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C282-2C70-4719-9864-C87184FE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EED-1FAA-4525-B345-D9C0015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4C0-C667-4AF7-A36A-33C7EA1A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BB91-8B4F-4C11-B7C5-69FC2EAB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B518-211D-4BE2-82F0-45CE1B8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94EC-DE35-4F31-AA13-06661BB7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212F-2437-4A7C-9E6F-2283EFD5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B61-0A0C-4DED-90C4-1E469C93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906-221E-4770-BA0A-020FA8CB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8D0-64C5-4E5F-8BFF-E2102242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75F-D544-4CA2-9AD2-B52FAB18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237-1CB1-4D7E-82E4-AFBCB46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471-8E86-4851-A31D-9470CB5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9A2-1EF4-44E2-95CC-90A295F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E7E-9AA4-4F08-BE6F-863D735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A52-6E18-41BA-B4F1-641B4799F4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7108-5DA7-4B0B-BDC5-3A9CABA27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крановые пу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балластного слоя для различных грунтов, типов рельсов, материалов балласта и други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величины давления на земляное полотно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рельсовых путей в план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и построения на чертеже опасных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зон возможного ограничения работы кран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6049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нагрузку от колеса на рельс, размер наиболее выступающей нижней части крана, максимальный рабочий вылет крюка и другие необходимые параметр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71520" y="887400"/>
            <a:ext cx="67294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порного эле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4381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абариты и материал опорного элемента могут быть выбраны из списка или указаны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46280" y="1098720"/>
            <a:ext cx="617868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286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рельсовых путей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0320" y="58086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подкрановых путей в плане необходимо указать размер колеи, тормозной путь, расстояние от оси крана до элемента торможения и выбрать тип тупикового упора. В случае необходимости можно указать  также размер рельсового звена и способ расчета длины пу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97160" y="887400"/>
            <a:ext cx="50990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пасных зо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27200" y="4483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оведения расчета опасной зоны необходимо указать наименьший и наибольший горизонтальный размер груза, а также максимальную высоту подъема нижней точки груза. После проведения расчета можно построить линию границы опасной зоны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666880" y="1197000"/>
            <a:ext cx="434052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защитного слоя и давления на земляное полотн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5400" y="57196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защитного слоя и давления на земляное полотно необходимо указать число ходовых колес крана и плотность балластного слоя, а также выбрать тип грунта для определения его параметров. Предусмотрена возможность ввода других параметров грунта, полученных, например, в результате натурных измер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050920" y="1204920"/>
            <a:ext cx="540252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подкрановых пут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427040" y="1317600"/>
            <a:ext cx="670104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2:25Z</dcterms:modified>
  <cp:revision>258</cp:revision>
  <dc:subject/>
  <dc:title>Слайд 1</dc:title>
</cp:coreProperties>
</file>