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D7D-7F35-448E-9973-B450FDFD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299-BDB1-4DF1-A831-A274BA20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D28-1833-4A23-9D05-E8CCEBE8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CD5-45CE-4472-8AE8-D64EE727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2EC-AE4E-407E-8D38-6F245483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FB01-0048-493D-BED4-CB823900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6CEC-415E-42A7-BEFA-46F635B4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7C22-5595-49BC-A14F-774437B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6BB6-6FE1-4A59-87EA-9526E3A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7AF-5AB3-422E-A558-A737239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CAB0-D206-49D6-B68B-D820D4A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906-3CBA-4768-A989-3D16DA23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BC59-9AB3-4571-A8DD-58B85BF0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DA6-0330-418F-8AD5-EF2FD64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5482-23AE-4C10-8FE4-1AF8749A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599D-69E3-4264-ABBF-65274494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C1A6-9703-4DFA-8059-12AD961E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0F0-0E54-4F70-ABC5-DF9699F9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2E7-E76F-4EF8-AFD7-D5A2CC65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F9E-9BD6-4DE9-A28E-ABC08BF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BF6-1227-48F2-895D-27DD5D2D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CE4-6F06-43E4-B045-C19A930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E7D-52D7-4711-9540-420F05F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94A-8D38-4918-BB18-D3FCFDE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F25-71D7-4FB7-8981-38A39A51CE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FB25-0E10-46C9-97C2-B751355477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оны ограничения работы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92080" y="4856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указать зоны ограничения работы крана по углу и вылету, вычертить зоны предупреждения и проставить координаты вершин зон ограничения относительно указанных пользователем точек отсчет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220840" y="1114560"/>
            <a:ext cx="5027760" cy="34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зоны ограничения работы кран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319040" y="1380960"/>
            <a:ext cx="6820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башенных, автомобильных, пневмоколесных, гусеничных и железнодорожных кранов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изображений крана в плане и разрез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 опасной и рабочей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отчета по расчету опасной зоны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графика грузовысотных характеристик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автоматизированного формирования фрагментов пояснительной записки  ПОС и ППР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4468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выбор крана, построение на чертеже изображений крана в плане и разрезе, включая построение  опасной и рабочей зон, вычерчивание графика грузовысотных характеристик и автоматизированное формирование фрагментов пояснительной записки  ПОС и ППР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22520" y="905040"/>
            <a:ext cx="462924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61672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башенных, автомобильных, пневмоколесных, гусеничных и железнодорожных кранов производится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19360" y="858960"/>
            <a:ext cx="56293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я и препятств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349884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проверку кранов с учетом точки стоянки и списка препятств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го препятстви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ются его название и тип, а также высота и разность между нулевыми отметками стоянки крана и здания. После добавления препятствия в список и указания его параметров, можно указать контур препятствия на чертеже или начертить его самостоятель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884320" y="968400"/>
            <a:ext cx="37720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крана по параметрам гру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543640"/>
            <a:ext cx="758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кранов может осуществляться на основании параметров одного или нескольких грузов. Пользователь может сформировать список грузов вручную или загрузить его из предварительно сохраненного набора, в том числе сформированного в программном модул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груз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838760" y="1219320"/>
            <a:ext cx="3930480" cy="404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520560" y="1219320"/>
            <a:ext cx="387540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рана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38080" y="5997600"/>
            <a:ext cx="758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башенных кранов в плане строится с подкрановыми путями, при этом дополнительное место стоянки может вставляться в произвольной точке подкрановых путей. Для всех типов кранов вычерчиваются линии границы опасной и рабочей зон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806400" y="933480"/>
            <a:ext cx="4200480" cy="4781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122800" y="933480"/>
            <a:ext cx="34750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рана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38080" y="58197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ид в разрезе любого из кранов может быть вставлен в чертеж с заданием дополнительных параметров изображения (штриховой вид, привязка к зданию, подкрановые пути, вылет стрелы, рабочая и опасная зоны и т.д.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30280" y="1060560"/>
            <a:ext cx="4219560" cy="4533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805280" y="1057320"/>
            <a:ext cx="41068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афик грузоподъемности и высоты подъема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8240" y="6129360"/>
            <a:ext cx="777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сех кранов возможно построение графика грузоподъемности и высоты подъема крюк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2543040" y="1201680"/>
            <a:ext cx="4272120" cy="475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3:39Z</dcterms:modified>
  <cp:revision>324</cp:revision>
  <dc:subject/>
  <dc:title>Слайд 1</dc:title>
</cp:coreProperties>
</file>