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1C28-4D83-4415-B793-63C2B73B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0CA5-A3D6-49B2-B5E6-EEE1906B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16AF-364E-476C-A83B-BA97A482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6519-8436-4FAC-A377-27A6F8E6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73FA-35C2-42CB-A7F0-3CF1E1CF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E80E-96BF-411C-8B54-B0F10596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9BD5-7DE7-4B97-AFE5-98739421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9419-FD66-4235-99FF-2DA5421F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7916-6029-4E11-8663-E2A3E420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714F-B0AD-4175-B70E-3B894C26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C51D-7C7F-4917-958A-8793A3BC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402B-B437-4CBF-BD80-947103C7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8228-E049-4D8F-8092-51828C70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3D9D-FCCA-4260-9909-B2211F39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60BD-A046-47B8-A5EC-C4B5ADE4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E823-9B01-499B-A37F-241E7E14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9793-CCAF-40A1-95DF-62018288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357D-4FFB-4718-8616-4275103B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335D-9B92-4741-81A7-1EE7BE47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22BC-DB70-4A7C-9A1B-EE83903E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F835-9145-4435-8A7B-D0694096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5D37-7E86-4027-AEBB-416C30FE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08FB-C198-4D0F-B4BF-1EFAD971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FB47-9978-427E-A41C-2636646C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61EA-61EB-4CD9-9512-D18B6C44F1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0BF7-6E3D-44A9-BE13-981178A3AB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Техника безопасности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073160"/>
            <a:ext cx="8121600" cy="56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автоматизированного формирования документации, отражающей вопросы техники безопасности и охраны труда. Программный модуль состоит из следующих пяти разделов.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Задачи техники безопасности, решаемые на стадии ПОС; в разделе помещены материалы, освещающие общие вопросы обеспечения безопасности труда, требования безопасности при эксплуатации машин, механизмов, инструмента и т.д., всего 7 задач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Задачи техники безопасности, решаемые на стадии ППР; в разделе помещены требования безопасности при производстве отдельных строительно-монтажных работ, всего 20 задач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Задачи техники безопасности, решаемые при разработке ППРк; содержит общие требования безопасности при эксплуатации грузоподъемных механизмов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Отраслевые типовые инструкции по охране труда; в разделе помещены инструкции по основным строительным специальностям, всего 64 инструкции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Гигиенические требования; в разделе помещены требования к организации рабочих мест в разных условиях производства СМР, гигиенические требования к оборудованию и механизмам, гигиенические требования к выполнению отдельных строительно-монтажных работ, организации рабочих мест и т.п.; всего 36 задач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Модуль предоставляет пользователю возможность отобрать, скомпоновать, нужным образом отредактировать отобранный материал и  оформить его в виде необходимого документа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Предоставляемые материалы основаны на актуальных требованиях нормативно-правового регулирования при проектировании, строительстве и реконструкции объектов капитального строительства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526248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тметить требуемые типовые разделы и включить их в разрабатываемый выходной документ.  В иерархическом списке разделов выходного документа имеется возможность создания новых разделов и правки существующи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84080" y="1192320"/>
            <a:ext cx="7981920" cy="39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оррекция раздела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9040" y="39798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авки раздела выходного документа нужно задать его новое наименование и, при необходимости, изменить вышестоящий разде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068480" y="1793880"/>
            <a:ext cx="6946920" cy="20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охранение выходного документ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48052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работанный выходной документ можно сохранить для дальнейшей работы, предварительно задав его наимен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500120" y="1484280"/>
            <a:ext cx="609624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16040" y="442440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сле завершения ввода всей требуемой информации можно сформировать и открыть в текстовом редакторе документацию, отражающую вопросы техники безопасности и охраны труда. С помощью соответствующих флажков в окне настроек печати выходного документа можно указать дополнительные требования к формированию от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298520" y="1374840"/>
            <a:ext cx="6748560" cy="2908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5-04-13T14:39:42Z</dcterms:modified>
  <cp:revision>252</cp:revision>
  <dc:subject/>
  <dc:title>Слайд 1</dc:title>
</cp:coreProperties>
</file>