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563-71CC-41CD-8727-D39AA465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892-14F7-4D3C-AD1E-C312217B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D06-525B-4B7C-A812-165578EE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0E8-2D93-479C-A141-E7A9B9E2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7A5B-054B-4542-A820-A04CEA05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1AA2-66D9-4F11-AAF3-FA82A388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3819-8C28-4684-8226-BD436BEA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12D2-CEF9-46D4-834A-AED69808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772E-AC3F-44F0-8BA2-EF2C5EFD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E4E8-B7E7-455F-971E-8E221E6F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B293-D9E6-43D0-92E8-60E5DC74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6C6-C392-4463-B0DB-3751BE1D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F564-52CA-43F6-ACF2-22C6FEA4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B48E-7B74-4D91-A3BD-F4E21C4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EE6F-7270-49DD-8038-746EDBC3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7531-871D-4DD7-A29C-4411FB6E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3079-224B-4422-AD71-4C3AD60B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707-31FB-4048-B6DC-676867E9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3A8-AF54-4540-9511-A6FC5C05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7B7-0A55-4EDD-A329-EBFD88BC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8FE-2BE6-4F2F-950D-6261BE7D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B17-1A96-4754-B8D7-4C43CA36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F0F-17F7-4496-B7EE-C2D82506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0E3-7763-4092-B5AC-0A1F5B1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ED13-7225-4493-8E2F-91A7770C84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5FA5-2A93-4D29-A3F2-E1DC5CD822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фундаментной плиты под кран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плиты, обеспечивающей безопасную эксплуатацию строительных и других кранов общего назначения, портовых кранов, а также кранов, устанавливаемых на объектах, исключающих возможность перерыва в работ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и расчетах учитываются характеристики крана, параметры критического груза, возможная ветровая нагрузка, а также марки бетона, арматуры и стали для анкерных болт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03160" y="55944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начала расчета необходимо указать характеристики крана, параметры критического груза, возможную ветровую нагрузку, а также марку бетона и назначение крана. Расчет проводится в два этапа: в начале определяется тип и количество анкерных болтов, а затем производится расчет фундаментной плиты по устойчивости в соответствии с характеристиками гру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178000" y="819000"/>
            <a:ext cx="5251680" cy="47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анкерных бол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8240" y="5740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анкерных болтов необходимо выбрать марку стали, а затем конструкцию бол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600280" y="1031760"/>
            <a:ext cx="425448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352600" y="3382920"/>
            <a:ext cx="4765680" cy="2224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524480" y="2871720"/>
            <a:ext cx="485640" cy="598680"/>
          </a:xfrm>
          <a:prstGeom prst="downArrow">
            <a:avLst>
              <a:gd name="adj1" fmla="val 50000"/>
              <a:gd name="adj2" fmla="val 30819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фундаментной плиты по устойчив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60320" y="5923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меры плиты, полученные в результате подбора анкерных болтов уточняются по результатам расчета плиты по первой и второй группам предельных состояний. Также определяются параметры армировани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135160" y="1211400"/>
            <a:ext cx="559584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ов расчета фундаментной плиты под кра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038320" y="1276200"/>
            <a:ext cx="5610240" cy="522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8T08:07:42Z</dcterms:modified>
  <cp:revision>258</cp:revision>
  <dc:subject/>
  <dc:title>Слайд 1</dc:title>
</cp:coreProperties>
</file>