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077-BDDC-450C-B3CA-85EFF202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48C-321C-40AC-8BC2-CDF11BA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0E6-4B5C-4291-AC19-947B7CE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0E6-A9AE-4733-AF6E-2787160F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864-74F6-483A-ADBB-65D4BF32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88E7-85AC-48AB-9483-92530E6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D46-B80F-4200-A5E4-A39DFE06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DE3-060A-4E29-9AD9-DDA6264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01B-3C25-4BF2-95D2-421B523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78AC-EA65-49A4-A136-ACEF60E5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42A-596B-4343-B8FA-5A1B811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11B-B7DB-4378-BB28-793580EA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80F8-5036-48F1-A1D9-622408A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532-5C94-44AE-8D8F-04BB5421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A5F-B2AC-411F-9DDD-ABBDD01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80F-BE3E-4B92-B7DE-DBD95234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3C8-4C06-476C-ACC9-53FBEE7E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57F-5AC0-4DC7-8EC9-087D96C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CB1-5128-4391-A051-BE7CC7A1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58F-7079-42C3-9CC3-B2C9204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5FF-123F-4060-8FF2-1C4CB27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695-ACB5-489F-9465-5D04BB8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CCF-A7B8-4568-85B0-9B87A57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A7A-CFEB-4AF4-BD64-13EC2B4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C80-FDDE-4002-BF47-4D6C51333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AA5-C53E-4C85-BA95-BE60ABDCE5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 линейных объект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 линейного объект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позиции, отраженные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46320" y="988920"/>
            <a:ext cx="7324560" cy="49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87280" y="1158840"/>
            <a:ext cx="68328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 линейного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477800" y="963720"/>
            <a:ext cx="6207120" cy="29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03-15T16:01:58Z</dcterms:modified>
  <cp:revision>255</cp:revision>
  <dc:subject/>
  <dc:title>Слайд 1</dc:title>
</cp:coreProperties>
</file>