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1CD-8178-4EF0-AC44-054F37D0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563-38C4-435E-B266-2507FA7D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2BB-D24B-4B69-8911-A845240D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14A-8DBF-4679-BDC0-5EB3B489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7093-6576-4B6F-8F33-878C2BF5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9F52-E3F8-4A9D-A54E-AA9BCA4B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FBDB-BED1-41F9-A2F7-A121791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CF4E-911E-4431-BFFF-EAE88E96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8253-5658-432B-9F76-CB03D9A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CB83-2D9E-4023-85C3-3F2BD745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47EA-80E4-4871-83EA-D8C738C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551-8D7A-47B9-8516-F0199D7F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672B-7A79-471E-9A8F-6CE8BB9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4A22-B3C2-495A-8DBE-E69B290B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55BF-E261-42E7-8B83-C768AC8E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6D26-9704-484A-9506-FCE4203D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1100-0916-49B4-AACC-6AB80D5A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78A-7959-49A1-85F9-088E2938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897-83D7-411D-8C00-94A2FB55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29C-B428-4000-BCE4-9AE83E58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541-BD5B-496D-A053-4ACB52DF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D3F-A36F-4A16-9EB2-63E3DFCA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803-3502-4104-96BF-A849B703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182-A608-43C8-9305-A50EB24B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D6B2-7355-479F-AC90-873FD31E24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FA7A-A3BB-4543-A321-D62372AADC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ности во временных зданиях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отребности строительства в кадрах,  во временных зданиях и сооружениях, жилье и социально-бытовом обслуживан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 производится исходя из наибольшего количества работающих на стройплощадке, определяемого на основании годовой стоимости СМР и среднегодовой выработки на одного работающего или на основании трудоемкости СМР. В результате работы программного модуля формируется перечень необходимых инвентарных зданий с обоснованием расчет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ов пояснительной записки ПОС и ППР в части обоснования потребности строительства в кадрах,  во временных зданиях и сооружениях, жилье и социально-бытовом обслуживан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896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потребности необходимо ввести участок строительства, задав его наименование, тип расчета потребности в кадрах, назначение объекта строительства и количество смен в течение дн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23960" y="102888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01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участка строитель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197320"/>
            <a:ext cx="7589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 вкладке «Потребность в кадрах» рассчитывается потребность строительства в кадрах в зависимости выбранного типа расчетов. На вкладке «Потребность во временных зданиях» формируется список необходимых потребностей на основании справочника видов назначений временных зданий и сооружений. На вкладке «Потребность в жилье и социально-бытовом обслуживании» формируется список необходимых потребностей на основании справочника назначений зданий и сооружений жилого и социально-бытового направ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441440" y="746280"/>
            <a:ext cx="648180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временных зданий и сооружений для участка строитель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7499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дбор осуществляется исходя из требуемых площадей на участке по определенным назначениям в ручном или автоматическом режиме. Выбор зданий и сооружений производится из соответствующего справочн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33440" y="1093680"/>
            <a:ext cx="692784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временных зданий и сооружений из справоч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49878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меется возможность задать дополнительные условия отображения данных в справочнике с учетом признака «Избранное» и наличия в зданиях площадей с необходимым назначени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033560" y="1600200"/>
            <a:ext cx="74581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потребности во временных здания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467080" y="1247760"/>
            <a:ext cx="47433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07:47:16Z</dcterms:modified>
  <cp:revision>276</cp:revision>
  <dc:subject/>
  <dc:title>Слайд 1</dc:title>
</cp:coreProperties>
</file>