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35F-7E8F-45C9-BAE3-5AF0317D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F93-A797-4351-B98C-5940B191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2B3-17FD-4B1B-9A8B-39EC2C0A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A65-A066-4222-8310-0EB151CB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D023-F104-498C-89ED-C2D5AA0E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B59-DBC9-4742-8F95-72E300F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A09-CE34-461E-AA23-6E4AC29C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6CC-208B-4CA4-ADCE-EF5B091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3E88-9E44-4214-A615-C4AE3A0D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FB5-A25D-4E7D-AD10-2E06152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E34-020F-4399-A0D8-9F78244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0EF-52A9-41D4-BA0C-579DFCE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61E-1D42-4388-95FA-1D6103CC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6C18-D322-478B-A4D0-6ECD9BF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5372-7845-45FF-A3BE-6FF0E47B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7B6-180D-41E6-B669-EBE1ECD8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BF38-E0B7-4582-8851-19FEED55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42A-E22F-4405-BF72-0D3F5939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4A5-63C0-43FA-B512-7BF2C256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34D-2CB7-4010-9944-23EBF2D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4C3-6DAF-424C-915D-D8A8A63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8D1-39D3-4B61-AEE2-91261B5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FB7-D177-44F4-A63D-8F25DC5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EB5-A82C-447C-A7DB-8290C50D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BA2-A163-42D1-9618-8F2CD0C16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8B2-127E-45FC-BCEB-AF9D0A582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Схемы строповки груз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набора используемых грузов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в зависимости от типа и массы груза соответствующих схем строповки и грузозахватных приспособлений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: набора схем строповки, таблицы грузов, таблицы грузозахватных приспособлений, текста примеч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ется база данных грузов, в которой для каждого типа и марки груза содержится схема строповки и наборы грузозахватных приспособлений при разгрузке и монтаж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323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сформировать набор грузов для вставки соответствующих схем и таблиц в чертеж. Имеется возможность сохранить набор грузов для его дальнейшего использования, в том числе и в программном модуле 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кран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54080" y="890640"/>
            <a:ext cx="5772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схемы стропов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369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на чертеже группируются в бло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93800" y="1501920"/>
            <a:ext cx="778500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аблицы грузов и грузозахватных приспособл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4007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вставки в чертеж таблиц грузов и грузозахватных приспособ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20640" y="3054240"/>
            <a:ext cx="8256600" cy="221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309760" y="1347840"/>
            <a:ext cx="484812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кст примеча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340000" y="973080"/>
            <a:ext cx="4948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2:51:30Z</dcterms:modified>
  <cp:revision>261</cp:revision>
  <dc:subject/>
  <dc:title>Слайд 1</dc:title>
</cp:coreProperties>
</file>