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CA2C-DE2D-48F0-A7E6-E7E6C4E6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1AA-C0FB-4C42-8DB0-E7B55870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C90D-F4FE-40E5-BCC3-035007E1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627-F46D-47EF-9720-D603D6AC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628D-8D2F-40BE-9991-9A9D7A32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F9E2-DD64-44DB-BA22-EB55B786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7DD2-7384-4B17-A6CB-73DA9928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10F4-3F1A-445C-A8CD-2AF8A37E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A782-F53C-4FC0-A6AD-AAF40592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C678-9AB2-4573-B665-F1068EC3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7A99-A0DF-4FCA-86E7-599EAA9E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0FC-7CD2-4A7E-A941-9B7C9266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F0FB-8667-4D07-96D5-43C31F9A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60F4-4266-4893-A0E3-FB739FDD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F0F0-49FC-412D-AA66-FDB87AC4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DA7F-D4CE-4AB8-801A-EF4B57A8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9D43-8657-4345-96F3-4A007464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9EF1-9A8F-4D57-AAC0-5EF1145A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F7F-D8C7-4DDA-9216-132DFF39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94C7-5FE2-4A54-BBA8-B535FA1E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86F0-7266-449F-A718-7AA81030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313-D9B3-4F3F-BC46-84513115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5A6-E76B-4CC6-9E13-762A1C9A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AA8-666A-4C4A-82E3-E033E018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1707-43CD-457E-A45E-10B9B9ED0C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1338-8CF7-4447-8F42-2FAB33DA23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Геодезический и лабораторный контроль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12840"/>
            <a:ext cx="812160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документации, отражающей вопросы организации службы геодезического и лабораторного контроля качества строительно-монтажных работ, включая примерные положения о геодезической службе в строительстве и о строительной лаборатор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нужным образом отредактировать отобранный материал и оформить его в виде необходимого докумен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актуальных требованиях нормативно-правового регулирования при проектировании, строительстве и реконструкции объектов капитального строительст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630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131840" y="1552680"/>
            <a:ext cx="736272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190520" y="1630440"/>
            <a:ext cx="692784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676520" y="1298520"/>
            <a:ext cx="6370560" cy="32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393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15764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документацию, отражающую вопросы организации службы геодезического и лабораторного контроля качества строительно-монтажных работ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933560" y="1400040"/>
            <a:ext cx="5780160" cy="249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9-04T11:54:30Z</dcterms:modified>
  <cp:revision>258</cp:revision>
  <dc:subject/>
  <dc:title>Слайд 1</dc:title>
</cp:coreProperties>
</file>