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984-F601-417D-8717-B27E010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7E7-4AA2-43D5-97E4-81C399AA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2F5-1722-4030-9C20-83F324C2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8FE-5D33-4AEC-8D7C-897C2311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D586-D695-4F25-B5E2-BC125504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2677-B925-4DE1-8548-604C76E7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CA35-40D3-4BD3-837F-1B11370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488-BA74-4B45-87D8-4C91DF2F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F32-72D7-447B-86DB-6B2FCDBD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8084-8C80-471D-8806-2D25FAFF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1EE-6ECD-4734-BB0F-DE47B68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45B-0EC6-463C-8B55-A48D1B0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F14C-0274-4909-9C09-4CC50F7D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AFA-43AB-4792-830A-6BC4708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CF3-9266-4561-866B-03234E0B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178-C11A-490B-B8D0-395F37ED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D2BF-529F-4DE5-9FF1-ACE917EF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C59-3978-4082-AD44-A443576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838-FDD8-4A55-BDFB-431974F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299-DE54-406D-93DF-2FE4C9C4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F72-3912-4F76-A75D-85FE5E5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7E6-013F-4678-BA99-EF99665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1C9-9A21-4752-B7CB-B17FBA5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A78-921F-4101-8D52-7E452F5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C28C-53EC-40E8-A45D-D54B1385F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814-6436-495C-BA54-AC20C4797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временных зда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временных зданий и сооружений на основании расчетных данных, загружаемых из программного модуля «Расчет потребности во временных зданиях»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блокирования зданий по длине, ширине и выс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каталожных листов и таблицы экспликации размещенных зд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змещения временных зданий и сооружений необходимо ввести участок строительства, задав его наименование, размеры и местоположение на чертеже стройгенплана. Далее нужно сформировать для выбранного участка список зданий для размещения на нем. Это можно выполнить  как вручную, так и загрузив информацию из модуля «Расчет потребности во временных здания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39760" y="941400"/>
            <a:ext cx="544860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участка временны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й и сооруж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8840" y="5702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изменить наименование участка, установить флажок отображения наименования участка на чертеже и указать масштаб построений на чертеже. По каждому зданию хранится следующая информация: наименование здания, наименование проекта (шифра) здания, признак блокирования зданий, габариты здания, количество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43280" y="1027080"/>
            <a:ext cx="561636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635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технологический справочник содержит структурированный перечень временных зданий и сооружений. По каждому зданию (сооружению) хранится его описание и список назначений с нормативными показателями (полезная площадь или расчетное количество человек). Имеется возможность фильтрации списка по фрагменту наименования и/или по признаку «Избранное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05000" y="1101600"/>
            <a:ext cx="51069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временного здания или соору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52480" y="59626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се характеристики любого здания или сооружения могут быть изменены. Также при необходимости можно указать способ блокирования нескольких одинаковых зданий по длине, ширине и выс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482920" y="1136520"/>
            <a:ext cx="468612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 здания (группы зданий)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17560" y="5114880"/>
            <a:ext cx="75898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здания (группы зданий)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положение зданий (вертикальное или горизонтальное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зданий в ряду (по умолчанию все здания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здания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266920" y="1220760"/>
            <a:ext cx="49482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временных зданий и сооруж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836720" y="1160640"/>
            <a:ext cx="610704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1:04Z</dcterms:modified>
  <cp:revision>294</cp:revision>
  <dc:subject/>
  <dc:title>Слайд 1</dc:title>
</cp:coreProperties>
</file>