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F45-E049-415F-A6B0-D08F546C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3CC-59E1-4892-BC66-EBB2A17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6EA-22F4-42F5-817C-D9FBB2A5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419-D29B-4C95-9F68-41E37C02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459-FD77-4CDA-9978-FA3468BC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0B64-E671-4002-8E8C-0D003622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AF8-046C-4098-9E7E-200999A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158F-BCA4-4200-922E-5CD52054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A89D-1B91-410D-ACD4-9AB163F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BC0C-0BBC-4314-A867-5A3B3C9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074-4BEE-4DAF-AA31-2ED098B7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447-6C2F-4CB9-A75F-65C0527A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1CF7-CD39-415E-8F7E-7A1DD88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FB8-0211-4F9E-A96D-998E9C44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C71-044F-4385-98A0-C60AACD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7AC5-ACC6-4EED-B0D8-82571242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3355-1A28-4BF1-8907-A06BDB7C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5A8-651B-40A2-AD78-17C5620B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FFE-92ED-4D8F-9DC9-17D04D6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5E3-787D-453A-9F00-6D067F5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E40-58CD-42C4-A019-DE613C8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B4D-6B7B-4DF8-941D-C9C8434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012-2557-485D-921B-C8C33B2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BC4-88E5-4953-9B78-808BD40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85CA-7EE2-4C5B-AC3F-828ACDB44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2AD-7963-440C-AA40-3B544CF2E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ные обознач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и вставки в чертеж строительного генерального плана знаков и линий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и вставки в чертеж таблицы экспликации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ставки в чертеж  цветографических знаков из ГОСТ Р 12.4.026-2001 и дорожных знак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4321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вставлять в чертеж точечные и линейные условные обозначения, а также формировать и дополнять таблицу экспликации условных обознач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05160" y="1108080"/>
            <a:ext cx="48402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и дополнение таблицы экспликац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49053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создания или дополнения таблицы экспликации формируется набор условных обозначений, на основании которого формируется таблица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58800" y="1479600"/>
            <a:ext cx="380700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959360" y="1649520"/>
            <a:ext cx="3610080" cy="3057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89400" y="3902040"/>
            <a:ext cx="803160" cy="39708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словные обознач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43040" y="5153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очечные условные обозначения (знаки) вставляются в чертеж в виде блок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81240" y="1163520"/>
            <a:ext cx="528336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ин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93800" y="5446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здание линейных условных обозначений возможно двумя способами: как набора блоков (Линии УО) или в виде единого объекта (Линии УО как типы линий). В последнем случае рассчитывается длина линии с учетом масштаба, а также возможно автоматическое формирование таблицы экспликации по построенным на чертеже лин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3840" y="11588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29920" y="109224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типы ли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58800" y="1641600"/>
            <a:ext cx="3959280" cy="2877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178600" y="1965240"/>
            <a:ext cx="34081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линий условных обознач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279440" y="1368360"/>
            <a:ext cx="6797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наки ГОСТ Р 12.4.026-2001 и дорожные зна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4543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ки ГОСТ Р 12.4.026-2001 и дорожные знаки вставляются в чертеж в виде цветографических растровых изображений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44440" y="1419120"/>
            <a:ext cx="4286160" cy="299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762440" y="1486080"/>
            <a:ext cx="41529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я цветографических знаков на чертеже и в таблице эксплика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139760" y="1447920"/>
            <a:ext cx="73026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9:51:58Z</dcterms:modified>
  <cp:revision>264</cp:revision>
  <dc:subject/>
  <dc:title>Слайд 1</dc:title>
</cp:coreProperties>
</file>