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61A3-83D4-4D49-8FF1-5EE797F35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4233-983A-4A26-9318-949D88B00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94EF-3929-4DFC-A5EB-9FF8784A8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DCEF-F36B-40CF-9E25-43B574DCA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FAF29-E154-44EB-907D-97D77CC2F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FB4E0-C197-4F10-BC63-5DFE52F02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B6889-44A4-4102-A98B-66BB975F6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B43CC-F33F-4C9D-AFC1-488479F4E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7EC3C-8EB1-4151-9E5C-84A356C79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8ADFA-DD2D-4AE8-8349-D26AA862B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27E0B-512B-44F1-9818-7B1E9F87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D75D-C734-449E-A3F8-C03DF284E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9B620-70EC-4758-A461-C635C5D8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EEA1A-FCB1-4654-879A-DFA048169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4F7D5-B71F-49D8-985D-EDF6905D4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E3854-DFAD-41FE-9EFE-862833866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C2AD7-B988-4A4E-BD23-C7DBECA4C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77AC-EBE7-4C05-A7E1-6F728E586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99C0-42AE-4D14-B491-B4CA300E4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192D-909D-4EA8-A4F5-A7301CBFA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6A4E-40DA-4A6F-89F4-832FC6EBA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04A8-505B-42B4-9A00-914087F15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915E-980B-48DE-A28C-60776E96A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6688-5277-47F9-AD15-F78EC166E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8723F-CBE8-43CB-B66B-92D2B202E1C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9ECA5-B1CE-4530-BEB2-8EC6379E35E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43520"/>
            <a:ext cx="8158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Разработка котлованов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Изображение котлована на чертеже в плане и разрез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06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07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8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4"/>
          <a:stretch/>
        </p:blipFill>
        <p:spPr>
          <a:xfrm>
            <a:off x="2127240" y="1292400"/>
            <a:ext cx="5167440" cy="509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остроение на чертеже съезда в котлован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1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1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793800" y="4782960"/>
            <a:ext cx="758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котлована может быть построен съезд. Съезд строится внутрь котлована перпендикулярно кромке. При построении съезда вычисляется его объем, который отображается в описании котлована и ведомости объемов работ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932280" y="2762280"/>
            <a:ext cx="803160" cy="396720"/>
          </a:xfrm>
          <a:prstGeom prst="rightArrow">
            <a:avLst>
              <a:gd name="adj1" fmla="val 50000"/>
              <a:gd name="adj2" fmla="val 50613"/>
            </a:avLst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4"/>
          <a:stretch/>
        </p:blipFill>
        <p:spPr>
          <a:xfrm>
            <a:off x="4836960" y="1535040"/>
            <a:ext cx="3990960" cy="284796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5"/>
          <a:stretch/>
        </p:blipFill>
        <p:spPr>
          <a:xfrm>
            <a:off x="514440" y="2044800"/>
            <a:ext cx="333684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314360"/>
            <a:ext cx="8121600" cy="51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пределения объемов земляных работ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остроения на чертежах котлованов с естественными откосами и с укреплением стен с учетом заданного рельефа местности, максимально возможной крутизны откосов и выбранных способов крепления стен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формирования геологических разрезов (колонок грунтов) с выделением различных видов грунтов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формирования ведомости объемов работ  и обоснования выбора способа крепления стен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остроения съездов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расчета баланса грунтов для предварительной вертикальной планировк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озможен выбор различных способов крепления стен: консольные ограждения из труб, двутавров и шпунтов с использованием анкеров, распорной системы и "островного" метода, "стена в грунте", буронабивные сваи и т.д.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Реализован автоматический подбор креплений на основе глубины разработки и характеристик грунто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381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973080" y="5688000"/>
            <a:ext cx="7589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рограммный модуль позволяет осуществлять формирование и построение на чертежах котлованов с естественными откосами и с укреплением стен с определением необходимых объемов земляных работ. Обеспечивается возможность построения котлованов в плане и разрезах, формирования ведомости объемов работ, построения съездов и т.д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1968480" y="561960"/>
            <a:ext cx="5556240" cy="509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Добавление котлована с естественными откосам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758880" y="5578560"/>
            <a:ext cx="7589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Сначала необходимо указать один или несколько контуров, образующих дно котлована. Затем указать исходную структуру грунтов для всей площадки. При необходимости можно сформировать рельеф, задав отметки рельефа в узлах сетки. Имеется возможность уточнить толщину слоев грунтов в каждой точке рельефа, а также рассчитать баланс грунтов для предварительной вертикальной планировк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1076400" y="1266840"/>
            <a:ext cx="7219800" cy="42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Формирование геологического разрез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798480" y="5391000"/>
            <a:ext cx="758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рограммный модуль позволяет сформировать структуру разрабатываемых грунтов с заданием перечня видов грунтов и толщин слоев. Обеспечивается вставка сформированного геологического разреза (колонки грунтов) в чертеж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2108160" y="885960"/>
            <a:ext cx="5410080" cy="432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Формирование рельеф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1035000" y="5022720"/>
            <a:ext cx="75898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рограммный модуль позволяет сформировать рельеф площадки путем задания узловых точек сетки осей с указанием отметок высот. При этом можно задать количество осей сетки рельефа и изменить размер площадки, на которой будет построена сетка рельефа. Минимальный контур площадки определяется автоматически. Для каждой заданной  точки рельефа имеется возможность  изменить толщины слоев геологического разреза (колонки грунтов)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211400" y="134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233960" y="193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4"/>
          <a:stretch/>
        </p:blipFill>
        <p:spPr>
          <a:xfrm>
            <a:off x="139680" y="1152360"/>
            <a:ext cx="4440240" cy="344016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5"/>
          <a:stretch/>
        </p:blipFill>
        <p:spPr>
          <a:xfrm>
            <a:off x="4673520" y="1158840"/>
            <a:ext cx="4314960" cy="342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Добавление котлована с укреплением стен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76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7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8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758880" y="5578560"/>
            <a:ext cx="7589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Сначала необходимо указать контур, образующий дно котлована. Затем указать исходную структуру грунтов для всей площадки. При необходимости можно сформировать рельеф, задав отметки рельефа в узлах сетки. Затем подобрать способ укрепления стен. Имеется возможность полного или частичного укрепления стен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4"/>
          <a:stretch/>
        </p:blipFill>
        <p:spPr>
          <a:xfrm>
            <a:off x="961920" y="846000"/>
            <a:ext cx="7220160" cy="465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Частичное укрепление стен котлован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86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87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8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758880" y="5146560"/>
            <a:ext cx="758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каждой стороны котлована имеется возможность выбрать свой способ укрепления стены или оставить ее без укрепления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4"/>
          <a:stretch/>
        </p:blipFill>
        <p:spPr>
          <a:xfrm>
            <a:off x="1728720" y="1230480"/>
            <a:ext cx="5686560" cy="368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563840" y="16524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Выбор способа укрепления стен котлован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96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97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8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758880" y="5756400"/>
            <a:ext cx="7589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Возможен выбор различных способов крепления стен: консольные ограждения из труб, двутавров и шпунтов с использованием анкеров, распорной системы и "островного" метода, "стена в грунте", буронабивные сваи и т.д. Реализован автоматический подбор креплений на основе глубины разработки и характеристик грунтов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4"/>
          <a:stretch/>
        </p:blipFill>
        <p:spPr>
          <a:xfrm>
            <a:off x="1447920" y="722160"/>
            <a:ext cx="6459480" cy="5019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6-08-23T08:04:33Z</dcterms:modified>
  <cp:revision>374</cp:revision>
  <dc:subject/>
  <dc:title>Слайд 1</dc:title>
</cp:coreProperties>
</file>