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736C-3F9B-4391-A821-63F57D3A4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CD4D-5AAD-4C62-B6B0-121E30C5D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8E8E-C799-4B12-8D9D-CE8A7A767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2F4F-DA0F-42B9-BCEA-48E53F84B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A69B8-C823-4F63-BCAC-33DEEAF52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F48FA-C60D-4BEE-9F1A-FF3EFF006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B3D75-9DAF-4D12-93DE-204BF1066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423F8-5706-470E-A466-8FBEDC020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DB0F4-8F5D-4A0B-9903-D61075031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6B0F4-D5BA-4219-82D5-32EF7F01F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93804-B99A-4C85-88B0-C9AB76A1A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98FB-1219-442A-98E9-E0240A54D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433AA-ABDE-420A-BC95-B0BACF5A9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D7021-F57B-4E1F-A2C8-8B977AB7F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0C0D6-1A56-4163-9E0B-9D99B629F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18843-BD4D-4CCE-B426-F3A6C64F1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037D3-FA8E-4BD3-8F31-6DF1D99C5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52F9-1286-4DF1-8691-432AEC901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296C-3099-40FC-BF5C-2BA13A5EA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BBF8-74DA-4614-8CAD-147B45F4C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9928-5215-4EC6-8FF5-7567B8360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BDFB-5127-4D7D-ACD5-9C2812FA7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ED1D-ED86-411A-A389-C4CA9EFC5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BF1F-217B-414C-A694-F455246AC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1345C-BFC4-4F8F-AAF4-E1C69690B52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3539A-AB7F-4483-AB98-EF874810542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61880" y="369720"/>
            <a:ext cx="1165320" cy="641520"/>
          </a:xfrm>
          <a:prstGeom prst="flowChartDecision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000" y="243000"/>
            <a:ext cx="855504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аучно-технический центр «Гектор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граммный комплекс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«Гектор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ектировщик-строитель»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Версия ЭКСПЕРТ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Инструмент для разработки проектов организации строительства (ПОС),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проектов производства работ (ППР), технологических карт (ТК)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Свидетельство РФ о регистрации в Реестре программ для ЭВМ № 200761352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85760" y="25884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8115480" y="26496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730080" y="4068720"/>
            <a:ext cx="770760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Times New Roman"/>
              </a:rPr>
              <a:t>Программный модул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Times New Roman"/>
              </a:rPr>
              <a:t>«Условия действующего предприятия»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18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19" name="" descr="">
              <a:hlinkClick r:id="" action="ppaction://hlinkshowjump?jump=endshow"/>
            </p:cNvPr>
            <p:cNvPicPr/>
            <p:nvPr/>
          </p:nvPicPr>
          <p:blipFill>
            <a:blip r:embed="rId3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0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649440" y="1212840"/>
            <a:ext cx="8121600" cy="52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 algn="just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рограммный модуль предназначен для автоматизированного формирования фрагмента пояснительной записки ПОС, учитывающего особенности проведения работ в условиях действующих производственных объектов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Модуль предоставляет пользователю возможность сформировать перечень необходимых мероприятий, подлежащих согласованию между застройщиком и генподрядной организацией, учесть дополнительные опасные факторы, возникающие при производстве работ на территории действующего предприятия, составить перечень дополнительных исходных материалов, необходимых для составления ПОС и ППР, в которых должны быть отражены конкретные условия выполнения СМР на территории действующего предприят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Особо выделены факторы стесненности рабочих зон при выполнении СМР и ограниченной возможностью применения типовой технологи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Выходные документы разрабатываются на основе поставляемых типовых разделов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Имеется возможность создания новых и правки существующих разделов в выходных документах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511280" y="174600"/>
            <a:ext cx="6577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Краткое описание функций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25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26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7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563840" y="35568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Главное окно 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3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76440" y="5630760"/>
            <a:ext cx="8121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Необходимо отметить требуемые типовые разделы и включить их в разрабатываемый выходной документ.  В иерархическом списке разделов выходного документа имеется возможность создания новых разделов и правки существующих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979560" y="1590840"/>
            <a:ext cx="7534080" cy="370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563840" y="35568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Коррекция раздела выходного документ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4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689040" y="3979800"/>
            <a:ext cx="812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Для правки раздела выходного документа нужно задать его новое наименование и, при необходимости, изменить вышестоящий раздел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1079640" y="1504800"/>
            <a:ext cx="7340400" cy="211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563840" y="29196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Сохранение выходного документа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5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5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676440" y="4805280"/>
            <a:ext cx="812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Разработанный выходной документ можно сохранить для дальнейшей работы, предварительно задав его наименование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4"/>
          <a:stretch/>
        </p:blipFill>
        <p:spPr>
          <a:xfrm>
            <a:off x="1357200" y="1125360"/>
            <a:ext cx="6783480" cy="350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563840" y="39384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ечать выходного документ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6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6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584280" y="4262400"/>
            <a:ext cx="81216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После завершения ввода всех необходимых данных пользователь может сформировать и открыть в текстовом редакторе фрагмент пояснительной записки ПОС, учитывающий особенности проведения строительно-монтажных работ в условиях действующего предприятия. С помощью соответствующих флажков в окне настроек печати выходного документа можно указать дополнительные требования к формированию отчет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4"/>
          <a:stretch/>
        </p:blipFill>
        <p:spPr>
          <a:xfrm>
            <a:off x="1803240" y="1293840"/>
            <a:ext cx="6150240" cy="2649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8T10:55:39Z</dcterms:created>
  <dc:creator/>
  <dc:description/>
  <dc:language>en-US</dc:language>
  <cp:lastModifiedBy>-</cp:lastModifiedBy>
  <dcterms:modified xsi:type="dcterms:W3CDTF">2016-04-11T12:24:58Z</dcterms:modified>
  <cp:revision>267</cp:revision>
  <dc:subject/>
  <dc:title>Слайд 1</dc:title>
</cp:coreProperties>
</file>