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A87-5DE0-4D84-9B89-C00CC714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3A5F-13D1-48ED-B2B0-3319FB21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2F7-720F-48C7-8E17-5ABB59CC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90B-2681-4A9C-BAD8-36D5F2CC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DB05-94A0-4B84-B1C0-D01B5E61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62F1-6264-4A7D-A6CD-EA057A71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66DC-63BB-4D5E-86DF-E907C636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1734-5A6C-4CC5-A38F-1DD9BFF9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2EFD-9C75-4468-AC20-6CB8D2B3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E7CC-3872-4166-B6DC-CDC55ADE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DB7E-0AD9-4141-B3B5-E6A914B9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691-3FC3-45E2-B195-3F22008B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8EE6-B10A-4732-84DA-723A73C0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D052-3E51-4E3E-AA2E-5F3B8D4A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1116-BB52-4BAD-93B1-25017F01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BF31-BF3F-40D0-A053-2CB576EB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2693-FD8A-472B-86DB-16B7A3C1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239B-2F5C-4DFF-88B0-3337F650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7817-2786-4E17-A574-C87BFE9A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31D2-72B1-4312-9743-B0028B9F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61A2-68CB-4C81-B80C-FFCCD8E5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E74C-91CC-440F-ACB0-B7E98565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5F4-C298-4664-A405-916F9817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209-B7BF-4902-9598-67A4D5F5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5D88-5774-4B14-949F-CB82710FEF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1401-13F4-4FB2-8271-276EEF1A48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Складские площадк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асчета потребности в складских площадях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1639800" y="1386000"/>
            <a:ext cx="629604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потребности в складских площадях на строительной площадке для хранения материалов, изделий, оборудования, машин. Складские площади вычисляются отдельно для случаев открытого хранения, хранения под навесом и хранения в закрытом складе. Модуль обеспечивает автоматизированное формирование фрагментов пояснительной записки ПОС и ППР в части обоснования размеров складских площадок на строительной площадк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ОС расчет складских площадей ведется по укрупненным показателям  на 1 млн. руб. максимального годового объема СМР (для закрытых складов и навесов) и/или на основе норм запаса, фактическом расходе и периоде потребления складируемых материалов и оборудования (для открытых складов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ПР расчет складских площадей  основывается на нормах запаса, фактическом расходе, периоде потребления складируемых материалов и оборудования с учетом норм количества материалов на 1 м2 площади склада и коэффициента использования площади скла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31960" y="5600880"/>
            <a:ext cx="79423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пределить варианты расчетов с нормативами для ПОС или ППР и ввести для каждого из них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еречень складируемых материалов и издели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еречень складируемого оборудования и маши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625760" y="895320"/>
            <a:ext cx="615780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варианта расчет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82720" y="5473800"/>
            <a:ext cx="762948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обходимо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ести наименование варианта и задать все параметры расчетов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тип нормативов (для ПОС или для ППР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коэффициенты неравномерности поступления и потребления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одовую стоимость СМР и индекс пересчета в цены 1969 г. (для варианта с нормативами для ПОС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90520" y="1011240"/>
            <a:ext cx="692784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материалов и изделий с нормативами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31960" y="5600880"/>
            <a:ext cx="7942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ности в складских площадках на стадии ПОС необходимо указать складируемые материалы и изделия с нормативами, приведенными на физические измерители или на 1 млн. рублей годового объема строительно-монтажных работ. Можно выбрать ручной ввод параметров складирования или использовать справочник норм расчетной площади склада для материалов и издел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662120" y="1265400"/>
            <a:ext cx="6262560" cy="42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оборудования и машин с нормативами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31960" y="5600880"/>
            <a:ext cx="7942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ности в складских площадках на стадии ПОС необходимо указать складируемое оборудование и машины с нормативами, приведенными на физические измерители или на 1 млн. рублей годового объема строительно-монтажных работ. Можно выбрать ручной ввод параметров складирования или использовать справочник норм расчетной площади склада для оборудования и маши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687680" y="1252440"/>
            <a:ext cx="626904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материалов и изделий с нормативами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831960" y="5838840"/>
            <a:ext cx="794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ности в складских площадках на стадии ППР необходимо указать складируемые материалы и изделия с нормативами, приведенными на физические измерители. Можно выбрать ручной ввод параметров или использовать справочник норм складирования материалов и издел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954080" y="1198440"/>
            <a:ext cx="5919840" cy="46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оборудования и машин с нормативами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831960" y="5786280"/>
            <a:ext cx="794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ности в складских площадках на стадии ППР необходимо указать складируемое оборудование и машины с нормативами, приведенными на физические измерители. Можно выбрать ручной ввод параметров или использовать справочник норм складирования оборудования и маши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1370160" y="1436760"/>
            <a:ext cx="696276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обоснования размеров площадок для складирования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455840" y="1363680"/>
            <a:ext cx="6724440" cy="515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4-13T14:25:14Z</dcterms:modified>
  <cp:revision>300</cp:revision>
  <dc:subject/>
  <dc:title>Слайд 1</dc:title>
</cp:coreProperties>
</file>