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A50-DB91-409C-A371-B6CDB906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A22-2569-4C64-A2E9-8D6CBA3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676-7364-4C09-95F4-ACEE4EC2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C0C-5A86-4B26-8569-D933281B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76CB-1234-452A-8F7A-9F329540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E1CF-2281-436D-B036-0DDC7C9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1D1-CF84-4CDE-A4E3-931639D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D40A-A1F6-4BF0-99AF-7A930D8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059-830B-40C4-9F0D-11D16A6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DD3A-2CE8-4551-9834-0D34F93D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4F0E-49E4-49F5-A06D-DD3952F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A8A-690A-4CD1-BF4D-D1A1A34E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F8E4-97B4-4BDE-AB05-91DD68AE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083A-5D07-4AB6-91CC-590B94C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C869-8423-487E-A0D7-28311B02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F7CF-3E62-446E-8D79-0F85B25E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81E2-57FE-4A81-BCCD-E60333C3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512-C78A-4E96-A8F6-D8FFA054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1E2-6D06-440F-91CB-E62A024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F26-B243-4341-82BF-AF274269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067-48CB-4D41-B53C-D63CC6CA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CB9-8458-4C37-BB88-32CCB9B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163-11B2-4343-9576-7116EF2F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D1C-DA3B-4029-B706-C21A796C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F94-AC0D-4373-BB97-95337AA5F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3EE0-E686-490A-A6F0-68F85C321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кстовая часть ПОС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и оформления в соответствии с требованиями действующих стандартов текстовой части проекта организации строительства. Структура и содержание разделов текстовой части ПОС строго соответствует требованиям, изложенным в Постановлении Правительства РФ от 16 февраля 2008 г. № 87 "О составе разделов проектной документации и требованиях к их содержанию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овая часть ПОС включает в себя 30 позиций, начиная от характеристики района по месту расположения объекта строительства и кончая описанием мероприятий по противопожарной защите; все позиции отражены в упомянутом Постановлении Правительства РФ. Каждая позиция реализуется либо с помощью соответствующего программного модуля (при наличии возможности формализовать задачу и провести необходимые расчеты), либо в виде стандартизованных текстов, дающих возможность пользователю четко изложить вопрос и отразить специфику проектируемого объекта. Для некоторых наиболее сложных и неформализованных разделов пользователю предоставляются примеры их заполнения, заимствованные из уже разработанных и апробированных проектов организации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аким образом, данный программный модуль носит собирательный характер и предоставляет пользователю возможность отобрать, скомпоновать, привязать к конкретному объекту и оформить в виде законченного и оформленного документа текстовую часть проекта организации строительства проектируем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339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66880" y="890640"/>
            <a:ext cx="73674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5494320"/>
            <a:ext cx="81216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 Кроме того, пользователь может настроить способ заполнения текста раздела: вручную, с помощью программного модуля, из существующего документа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28600" y="1019160"/>
            <a:ext cx="6927840" cy="42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 показателями по объект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9040" y="5494320"/>
            <a:ext cx="8121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режиме работы с показателями по объекту пользователь может просмотреть показатели работы программных модулей и изменить пользовательские показате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61920" y="947880"/>
            <a:ext cx="72201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44337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19240" y="971640"/>
            <a:ext cx="7061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41101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текстовую часть ПОС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547640" y="1162080"/>
            <a:ext cx="62661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3T15:04:29Z</dcterms:modified>
  <cp:revision>253</cp:revision>
  <dc:subject/>
  <dc:title>Слайд 1</dc:title>
</cp:coreProperties>
</file>