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BE2-20B3-436C-9F9A-7A8D15FC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2E3-C0CB-4F0F-AE4A-32225CF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E88-205A-4022-92E1-4DFA2FC7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9EC-49BF-4BFA-8A7C-C9D5FA25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5FF-6016-44A1-9EF6-23307053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DC8-1F0C-420F-842C-D2DAB64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4A3-E61B-44DC-8551-38810006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7AA3-298D-4D4E-8A40-4E43814F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16E-5F28-4EAC-B8CC-BAD1BE3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795-73A5-4AC9-A4D9-550FD639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B2D8-C9DC-463A-B8D4-35B8CB6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78B-9DC8-4D82-8809-8A0EB94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D20-8995-40F7-8C08-201B277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8B2-C233-4D94-98CF-D2BF765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A6E-8E48-4FFD-8A76-32CBB3EF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983-159B-4810-8F42-1F96AEE1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4897-AA63-4E9B-B77C-19B3455A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CA2-B53B-48DC-ADE3-A65AEB06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2C4-2644-4923-9302-E62EA3E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4D2-A253-4417-B6C8-E74A434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E4C-B32F-4CCC-8F25-C69ABBD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E0E-EA1D-4748-B1FC-0BE6B1F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B3A-2F6B-4A1D-8E65-364E910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088-A560-42C1-B555-725A021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FDB-253A-4A90-B835-CD873EDDF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31C3-B732-4608-9227-35E5F4E54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строительной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, описывающих мероприятия, обеспечивающие комплексную охрану строительной площад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проанализировать, скомпоновать, привязать к конкретному объекту и оформить в виде фрагмента пояснительной записки всю информацию по тематике, связанной с охраной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водится перечень возможных угроз безопасности объекта и имущества, находящегося на стройке и даются рекомендации по их устран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собое внимание уделено обеспечению антитеррористической защищенност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1639800"/>
            <a:ext cx="763740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2440" y="1739880"/>
            <a:ext cx="57718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3960" y="1079640"/>
            <a:ext cx="666756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, учитывающий особенности охраны строительной площадки в период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47720" y="1231920"/>
            <a:ext cx="6205680" cy="26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8:49Z</dcterms:modified>
  <cp:revision>269</cp:revision>
  <dc:subject/>
  <dc:title>Слайд 1</dc:title>
</cp:coreProperties>
</file>