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7BE-A687-459E-B0A4-DC1ED802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70F-D04F-4742-9603-001F659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061-FB69-4B89-BF6B-9EC287AE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16B-A91B-4E39-8277-F701402D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118-21E0-48FF-B0BD-3E50BA38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09D6-97E0-48FA-B7C5-83946ED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65FC-D72C-4D83-9691-3C2E7E6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2E6A-2575-4EB9-B007-306C6757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0F32-7C44-4679-8061-F5BD9358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42C2-209C-4A0F-A2F4-D96ECCC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6FEA-3771-498A-B096-F476E86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8E2-A667-4FED-A61F-71F3867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986-33FB-436D-A3FC-A90F0DA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62E6-36F6-4CDD-8F38-50E132A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B3DC-83AA-486E-854F-5A61BD4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15D1-65E3-4462-AD06-8951C819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6AE6-1B04-4F12-B798-6AC621CE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081-D9A1-498B-8B3D-B9D6C6C6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D90-29AA-4200-B2B3-FAF68100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AE3-3FD9-429C-AA95-F972F9B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C23-7A57-4DC5-9E5F-52676CC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D36-94F8-4977-AEAF-A11B762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135-586D-411F-A389-9E24D7E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B99-B680-40C3-A2C8-F92DC9CF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ECA3-396F-471C-82FE-A3313D69D9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A74F-13F0-4EDC-AE6D-7B19B7B14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водопониж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чета водопонижения котлованов и траншей для выбранной из 12 возможных схем водопониж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контура водопонижающей системы с рассчитанным количеством скважин (иглофильтров) в масштаб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41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0960" y="517356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чет водопонижений производится по одной из 12 схем водопонижения (в соответствии со СНиП 2.06.14-85). Для проведения расчета водопонижения необходимо указать радиус депрессии, приведенный радиус водопонизительной системы, понижение уровня подземных вод в расчетной точке, коэффициент фильтрации, непониженный напор подземных вод, толщину водоносного слоя и мощность откачки воды, а также некоторые дополнительные параметры (в зависимости от выбранной схемы водопонижения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43120" y="858960"/>
            <a:ext cx="59245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диуса депресс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9480" y="51436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диуса депрессии производится по одной из семи расчетных схе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05040" y="1031760"/>
            <a:ext cx="59245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Расчет приведенного радиуса водопонизительной систем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0356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веденный радиус водопонизительной системы рассчитывается исходя из длины линейной системы или размера большей стороны контурной системы. Данный параметр можно ввести вручную или получить из чертежа, указав контур систем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30320" y="1461960"/>
            <a:ext cx="563904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онтура водопонизительной системы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8262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троение на чертеже контура водопонижающей системы с рассчитанным количеством скважин (иглофильтров) в масштаб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89120" y="1262160"/>
            <a:ext cx="445608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водопони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90840" y="1301760"/>
            <a:ext cx="62085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7:50Z</dcterms:modified>
  <cp:revision>256</cp:revision>
  <dc:subject/>
  <dc:title>Слайд 1</dc:title>
</cp:coreProperties>
</file>