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7A1-86CF-41DE-BB1D-995C3DCA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777-A7E7-4BF2-A64D-982E84D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B57-225C-4AB2-A789-E9E16A4D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19C-3A24-459D-AE35-AF2A25DD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92D-6488-443B-8481-D9F7B03F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062F-D02C-4CB4-AAA8-BD699CCC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F252-4CBB-45AF-A6C6-ABE9CEC2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9849-0101-4C51-948B-57A900F6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165-5292-4C14-938E-8A60080D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861B-4F36-4D33-AF56-9ADA2FC3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4CA7-031E-427D-8B08-821AAF7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101-DB2A-417D-ADC6-DFC4979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AA7B-0F2A-40CC-BCE0-3157BF66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746F-EA20-4870-8752-EEA6976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DECB-65AC-451F-B34E-6CF33473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AB1B-5CC1-40D5-A374-9AB55D2D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C100-02AD-456A-B10C-220A68A0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53D-FB55-4292-9E5E-B8EF0B57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EC2-8FAF-4B9C-AC2F-3D8A332D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EA0-3850-4C60-B75C-8B54CE26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6B7-B267-4D11-85B8-D91EB546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268-BB90-4986-9382-67B8E62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15B-BC09-4FC5-9D35-E600151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7C0-85D5-4651-B6F1-D95021B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E740-CD46-4278-9285-654D13C19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F681-74B2-485B-8C4D-86A3284C6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7980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ый план ПОС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47640" y="189000"/>
            <a:ext cx="657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cc00"/>
                </a:solidFill>
                <a:latin typeface="Arial"/>
              </a:rPr>
              <a:t>Печать результатов расче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cc00"/>
                </a:solidFill>
                <a:latin typeface="Arial"/>
              </a:rPr>
              <a:t>продолжительности строительст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817236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92240"/>
            <a:ext cx="812160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строительства объектов в составе ПОС на ранних (предпроектных) стадиях инвестиционно-строительного цикла. Основой проводимых расчетов служат нормы продолжительности строительства зданий и сооружений, в том числе "Нормы продолжительности строительства и задела в строительстве предприятий, зданий и сооружений" (СНиП 1.04.03-85*), "Рекомендации по определению норм продолжительности строительства зданий и сооружений, строительство которых осуществляется с привлечением средств бюджета города Москвы" (МРР-3.2.81-12), "Нормирование продолжительности строительства зданий и сооружений,  ЦНИИОМТП" (МДС 12-43.2008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В программном модуле учитываются различные условия возведения объектов в отраслевом, территориальном, конструктивном и других аспектах. При расчете продолжительности строительства объектов используются методы интерполяции и экстраполяции, показатели строительства объектов-аналогов и т.п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олученный календарный план строительства объекта определяет сроки и очередность строительства основных и вспомогательных зданий и сооружений, технологических узлов и этапов работ, пусковых или градостроительных комплексов с распределением капитальных вложений и объемов строительно-монтажных работ по зданиям и сооружениям и периодам строительств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2384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030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5648400"/>
            <a:ext cx="835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подобъекта (вида работ) определяется начало и окончание строительства, продолжительность подготовительного периода на основании выбранного метода расчета:  вручную,  по стоимости СМР по СНиП 1.04.03-85*,  по объекту-аналогу по СНиП 1.04.03-85*,  по объекту-аналогу по МРР-3.2.81-12, по объекту-аналогу по МДС 12-43.2008. Также при необходимости могут быть определены показатели задела (готовности) по месяцам или квартал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16000" y="946080"/>
            <a:ext cx="72010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ный метод определения продолжительности строительств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4360" y="58053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продолжительности строительства объекта, не имеющего прямых норм, используется расчетный метод, основанный на функциональной зависимости ее от стоимости строительно-монтажных работ в ценах 1984 г. При использовании расчетного метода коэффициенты к нормам не применяю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08000" y="1052640"/>
            <a:ext cx="58327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Выбор отрасли (подотрасли, вида производства и объектов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55640" y="3959280"/>
            <a:ext cx="812160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основных отраслей зависимость продолжительности строительства объектов  Т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от стоимости строительно-монтажных работ  С выражается в виде функци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де  С - объем строительно-монтажных работ, млн. руб., в ценах, действующих с 1984 г.,  А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, А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- параметры уравнения, определенные по данным статис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етод применим для интервала объемов СМР по отраслям, подотраслям, видам производств и группам объектов, приведенных в справочни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456680" cy="2686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3995640" y="4508640"/>
            <a:ext cx="1457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115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одолжительности строительства по объекту-аналог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ов используются методы интерполяции и экстраполяции на основании нормативной продолжительности строительства объектов-аналогов в соответствии  со СНиП 1.04.03-85*,  МРР-3.2.81-12 или МДС 12-43.200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50920" y="1033560"/>
            <a:ext cx="554544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115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объекта-анало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бор объекта-аналога производится из соответствующей нормативной базы. Для объектов из базы СНиП 1.04.03-85* также определяются показатели готовности объекта по капитальным вложениям (полной сметной стоимости) и стоимости строительно-монтажных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741708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47640" y="189000"/>
            <a:ext cx="6577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чет природно-климатических факторов и технологии производ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троительно-монтажны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56545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ов необходимо учитывать воздействие природно-климатических факторов  на  условия  труда, технологию производства строительно-монтажных работ и т.п. Данные факторы могут быть учтены при расчете благодаря использованию понижающих или повышающих коэффициен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2050920" y="1749600"/>
            <a:ext cx="611532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47640" y="189000"/>
            <a:ext cx="657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выходного докуме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11280" y="3579840"/>
            <a:ext cx="8121600" cy="29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и проведения нужных расчетов пользователь может сформировать и открыть в текстовом редакторе фрагмент пояснительной записки ПОС по расчету продолжительности строительства и задела (при необходимости). При создании отчета пользователь может задать следующие дополнительные требования к отображению в нем показателей заде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период (нет, по месяцам, по кварталам, по годам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масштаб цен (тыс.руб., млн.руб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 этом в документ будет выведена следующая информа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исходные данны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рассчитанные знач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формулы, использованные для расче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названия нормативных документов – оснований проведения расче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2987640" y="1197000"/>
            <a:ext cx="3051360" cy="19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8:12Z</dcterms:created>
  <dc:creator/>
  <dc:description/>
  <dc:language>en-US</dc:language>
  <cp:lastModifiedBy>-</cp:lastModifiedBy>
  <dcterms:modified xsi:type="dcterms:W3CDTF">2017-01-10T13:25:07Z</dcterms:modified>
  <cp:revision>255</cp:revision>
  <dc:subject/>
  <dc:title>Слайд 1</dc:title>
</cp:coreProperties>
</file>