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A11F-F04F-4449-9968-879316ED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DCA-CAE4-4501-A366-07A16696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D3A3-BDAF-4BB7-8262-E408560B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0AAA-F468-4CA8-A402-DF6C3154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B54E-D5E6-4D25-A0FF-9A3720B9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78BC-2AF8-4E98-8899-C4DF7847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9ADC-C696-47FC-AC47-77E0F9A0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274E-FF36-4E9E-A2E6-029F2794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2B5D-BA39-4532-BCAC-3C2E9497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D0E2-B816-4AEB-BF91-1EB5FF84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AB56-A91C-4203-85CD-6088C78A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171-4D37-43F0-800B-887D5177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B970-5F0C-4428-A966-E79821F6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A1DB-D178-464E-A5AE-2391DD62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6D26-1B3D-4E79-9312-DAE97285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CC00-6F1E-4770-8BB4-C77FCA48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28BA-BF10-4351-9EC5-333C2408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04EC-2BAD-4DBB-83AA-FB528C5F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FCC-C283-4987-968A-31BE2BCE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FC5-748D-411F-BFCD-EA7CB26C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AA06-C6D3-457C-BF27-4AE1D6A7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9AC-09E3-474B-910C-89BBEDAB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475A-4F2F-4B10-81F2-53C8785E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334-85BA-450D-9769-4C19C08A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0960-A855-42B1-B04F-50080926FF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44BA-8352-49E6-83E0-DEEEE111CC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ременные ограждения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30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строительного генерального плана графических изображений временных ограждений выбранного типа и заданных параметров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вставки в чертеж схемы устройства выбранного типа ограждения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потребности в материалах для данного ограждения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вставки в чертеж таблицы расхода материалов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лучения текстового выходного документа с таблицей расхода материалов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578808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бор ограждений формируется в таблице и сохраняется в чертеже. Участки ограждений добавляются двумя способами: построением на чертеже или указанием существующих полилиний. Для каждого ограждения можно вставить в чертеж схему устройства и таблицу расхода материал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427120" y="938160"/>
            <a:ext cx="4897440" cy="474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ворот и калиток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43040" y="5788080"/>
            <a:ext cx="758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орота и калитки формируются в отдельный набор, который сохраняется в чертеже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181240" y="795240"/>
            <a:ext cx="50562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типа огражд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3040" y="486108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едусмотрена возможность изменения типа ограждений и ворот (калиток), их наименования в наборе и на чертеже и других необходимых параметр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538280" y="1042920"/>
            <a:ext cx="5934240" cy="22287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1530360" y="3675240"/>
            <a:ext cx="593424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временного ограждения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708200" y="1427040"/>
            <a:ext cx="6053040" cy="36626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43040" y="52545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Изображение ограждений на чертеже может включать в себя участки ограждений в виде условных линий, ворота (калитки) в виде условных обозначений, а также выноски с надпися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схемы устройства ограждения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639800" y="1349280"/>
            <a:ext cx="6118200" cy="29656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43040" y="447984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каждого типа ограждения предусмотрена возможность построения на чертеже схемы устройства огражд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таблицы расход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материал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1041480" y="1592280"/>
            <a:ext cx="7337520" cy="22496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743040" y="402264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Таблица расхода материалов может быть вставлена в чертеж или сохранена в документе формата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icrosoft W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7-03-06T08:12:26Z</dcterms:modified>
  <cp:revision>255</cp:revision>
  <dc:subject/>
  <dc:title>Слайд 1</dc:title>
</cp:coreProperties>
</file>