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E1B-84BA-4512-95CC-698023CC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FBA-2853-4FB6-A7F5-4FB99698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3B7-635A-4E22-B10D-8DBB4B66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6A3-C966-4BF2-967C-793F868D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ADE3-2098-4BC8-A2AA-1DA7425A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8EE2-31E2-405D-8538-D29B8B29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2108-29C0-4E33-A7A2-79067875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C11C-686B-48FD-BCC1-D2F8E91E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8434-9BD0-4AB9-8130-2F126C6B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7505-997C-4BB5-ABCA-A2CE0EEB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C287-25E4-4635-A208-FA60D689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997-18E3-4FAE-B17F-58A4E4F0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EE46-3FBE-41EA-9E85-8E078509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D40C-00AE-41A8-9116-9E20D969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3448-BF85-499D-8A4F-BB768531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F4C7-91CA-48B3-B2AC-92D6D7DB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AC69-3697-454A-BF45-BD370EA9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2A3-D14A-472B-8FA3-BE5031F3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098-014C-432D-B656-CD534124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5EC-568F-44BB-9346-8E37A527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3D4-DC92-4955-8B7B-8970691A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23E-9647-4EAC-BE57-AA58E5DE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11B-A4FF-4E73-B2B5-6AE2E53D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D6B-66AD-4B4F-B63E-18BB741A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9226-F493-49CD-9154-D08B6A3ACA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8641-DC0A-4DB6-8C80-B84AE9AB02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Стесненные услов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54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а пояснительной записки ПОС, учитывающего особенности проведения работ в условиях стесненной городской застрой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привязать к конкретному объекту и оформить в виде фрагмента пояснительной записки информацию по следующей тематике: общие положения по проектированию и строительству объектов в стесненных условиях; особенности производства работ в стесненных условиях; устройство ограждающих конструкций котлованов в стесненных условиях; особенности устройства оснований и фундаментов в стесненных условиях; особенности разработки ППРк для условий стесненной застройки; вопросы демонтажа и сноса зданий и сооружений в стесненных условиях; особенности проведения мониторинга строительства и реконструкции в условиях стесненной застрой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266840" y="1440000"/>
            <a:ext cx="684540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976320" y="1405080"/>
            <a:ext cx="745956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252440" y="1014480"/>
            <a:ext cx="68328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84280" y="426240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пользователь может сформировать и открыть в текстовом редакторе фрагмент пояснительной записки ПОС, учитывающий особенности проведения работ в условиях стесненной городской застройки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152360" y="1065240"/>
            <a:ext cx="6794640" cy="292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36:39Z</dcterms:modified>
  <cp:revision>276</cp:revision>
  <dc:subject/>
  <dc:title>Слайд 1</dc:title>
</cp:coreProperties>
</file>