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0AAF-0A77-4D67-A14A-5F08B1855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6E56-1FD7-4B5F-A671-3C4EE9AC0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F98C-E767-422E-B888-5F9E22718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3AEF-7015-47D6-8C0B-385553C17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2BAA7-B08E-4B03-B060-9E31AC01B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0CA26-BED3-464F-BE45-A5547E6B9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756F4-6A61-4604-960F-A40CDAEE1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4FBED-C940-42A7-9160-1C3BE15C8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D0830-1E0A-4306-BC98-9825BEC21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41FF2-C997-40D5-8876-1283D308E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69733-7743-44C7-A04B-4A10814B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8754-2B72-4C8E-8B64-85968EA5B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0C79C-57F2-477C-8BBE-E8F2C40B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83853-F6AF-4C63-A668-78123329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34A4C-D7FF-45C1-8806-BDD449D00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E164E-CCA2-40BD-96D0-15F1B8875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97E85-8522-485F-9600-559846CE9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DB48-B5B6-4022-929B-1D6F76A4E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C82B-4918-4E79-AC45-B4F12BDB3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42B4-E8E2-43AF-897C-8E4E7B0CC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9D8C-FA1A-4EFC-9729-104F9686B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4F80-B4AC-436F-9BA4-0FA707BF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9716-335F-4F9C-AD9A-F43C5437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FD1C-A390-4BD5-94AD-1DA3FEF0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E2A20-DB61-42DF-9CB7-8554C13D470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E8B34-D7EC-46E0-88B0-9CA261D46BF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68720"/>
            <a:ext cx="770760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Мониторинг зданий вблизи стройплощадки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073160"/>
            <a:ext cx="8121600" cy="56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 автоматизированного формирования фрагмента пояснительной записки ПОС, содержащего перечень мероприятий по организации мониторинга за состоянием зданий и сооружений, расположенных в непосредственной близости от строящегося объекта, земляные, строительные, монтажные и иные работы на котором могут повлиять на техническое состояние и надежность таких зданий и сооружени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Проводимый мониторинг призван обеспечить постоянный контроль наблюдений за деформациями подземного пространства; наблюдений за деформациями окружающих зданий и сооружений; геодезических наблюдений за тоннельными конструкциями (при необходимости); наблюдений за деформациями самого строящегося сооружения; наблюдений за состоянием окружающей среды; наблюдений за гидрогеологическим режимо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ыходные документы разрабатываются на основе поставляемых типовых разделов. Предоставляемые материалы основаны на современных требованиях к организации и проведению мониторинга, обеспечивающего контроль за всеми факторами, влияющими на техническое состояние и надежность зданий и сооружений, расположенных вблизи возводимого объект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Имеется возможность создания новых и правки существующих разделов в выходных документа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35568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76440" y="563076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Необходимо отметить требуемые типовые разделы и включить их в разрабатываемый выходной документ.  В иерархическом списке разделов выходного документа имеется возможность создания новых разделов и правки существующих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77960" y="1538280"/>
            <a:ext cx="7880400" cy="376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35568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оррекция раздела выходного докумен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89040" y="397980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правки раздела выходного документа нужно задать его новое наименование и, при необходимости, изменить вышестоящий раздел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839880" y="1343160"/>
            <a:ext cx="7805520" cy="225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Сохранение выходного документа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676440" y="480528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Разработанный выходной документ можно сохранить для дальнейшей работы, предварительно задав его наименовани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1380960" y="888840"/>
            <a:ext cx="6907320" cy="35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39384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выходного докумен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584280" y="4262400"/>
            <a:ext cx="8121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После завершения ввода всех необходимых данных пользователь может сформировать и открыть в текстовом редакторе фрагмент пояснительной записки ПОС, учитывающий мероприятия по организации мониторинга за состоянием зданий и сооружений, расположенных в непосредственной близости от строящегося объекта. С помощью соответствующих флажков в окне настроек печати выходного документа можно указать дополнительные требования к формированию отчет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1281240" y="1131840"/>
            <a:ext cx="6840360" cy="2946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6-04-11T12:42:05Z</dcterms:modified>
  <cp:revision>280</cp:revision>
  <dc:subject/>
  <dc:title>Слайд 1</dc:title>
</cp:coreProperties>
</file>