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167-59CB-420A-99E4-1CF8F3ED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4BF-E12D-415B-B8E3-9F4BB25A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F6A-9768-4954-A51E-F530AAC9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260-1CAA-44BC-8B4E-44333D06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E1F7-1738-4E70-BCBD-1BB3090C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1B41-3853-47BC-9F55-A668C681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360D-DF00-4881-8F1A-686E3AE8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48C4-1549-4FA9-AAD1-C04AC2B0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BE8D-8DF7-4340-8F79-96FF71C4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76D5-5CA7-43CB-847D-193F899A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9E24-3B44-4C9A-9C99-05E3514F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BFD-4FC3-48A8-B941-0C452F8D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2F8E-5239-4187-BE12-C9191676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1A08-029E-4A13-ABE9-D9360048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B21E-9CE3-435D-A669-98D08923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E8AE-C29C-4EFD-89DD-470EBF78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72AE-7C41-42E9-B9A7-02C57523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517-6C93-4F81-93F3-C2F93521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849-6995-42C4-B539-1EE70422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76A0-ED90-4DB5-BF11-83071678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FD2B-2A9D-4C0E-BC23-5B73FC64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592-289E-4229-B0B0-ED2189EC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4D6-1F78-494D-8508-CCEF1301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30C-6F49-496C-89B8-C109CC4D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5023-D0DA-48A5-8451-CD9890E99B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9111-BCEF-460E-8FB1-ECA4F5EFA9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дбор землеройной техник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подбо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емлеройной тех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2131920" y="1316160"/>
            <a:ext cx="543888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51000"/>
            <a:ext cx="8121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выбора эффективных землеройных и транспортных средств с учетом условий производства земляных работ. Модуль обеспечивает формирование комплекта машин и оборудования, необходимого для выполнения земляных работ на строительном участке, подбор и расчет необходимого количества марок техн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омплект машин формируется с учетом заданного вида работ, объемов и характеристик разрабатываемых грунтов. Подбор марок техники осуществляется отдельно по каждому виду техники (экскаваторы, самосвалы, бульдозеры, скреперы и пр.) с учетом характеристик машин комплекта. Расчет потребного количества техники производится исходя из ее эксплуатационной сменной производительности, объема и продолжительности раб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обеспечивает автоматизированное формирование фрагмента пояснительной записки ППР, технологической карты на земляные работы в части подбора землеройной техники и транспортных сред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7960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ввести участок земляных работ, задав основные параметры и перечень разрабатываемых грунтов с их характеристиками, далее для введенного участка работ осуществить подбор техники. Характеристики участка земляных работ можно загрузить из модуля «Разработка котлованов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39960" y="934920"/>
            <a:ext cx="736272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04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участка земляных рабо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58086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вода участка земляных работ необходимо задать его наименование, выбрать вид работ (в соответствии с ГЭСН или прочие работы), задать продолжительность работ, количество смен, продолжительность смены. Далее для участка нужно сформировать перечень разрабатываемых грунтов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812960" y="947880"/>
            <a:ext cx="577224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дбор землеройно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ики для участка рабо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66892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 задать тип работ и конкретную работу (если выбран вид работ по ГЭСН), затем  подобрать требующуюся технику и определить ее количество. Подбор техники для производства земляных работ и определение ее потребного количества производится по следующим категориям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экскаваторы, самосвалы, бульдозеры, скреперы и  проче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911240" y="915840"/>
            <a:ext cx="5761080" cy="45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77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количества экскавато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572436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количества экскаваторов необходимо определить их эксплуатационную сменную производительность. Она может быть: введена вручную, в т.ч. рассчитана на основании норм времени по ЕНиР; рассчитана на основании технических характеристик выбранного экскавато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638360" y="790560"/>
            <a:ext cx="624852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77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количества самосвал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16040" y="57880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расчете количества самосвалов учитываются характеристики выбранного экскаватора, грузоподъемность, скорость передвижения, время разгрузки и маневрирования самосва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968480" y="781200"/>
            <a:ext cx="562140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177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количества бульдозе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16040" y="59151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количества бульдозеров  необходимо определить их эксплуатационную сменную производительность. Она может быть: введена вручную, в т.ч. рассчитана на основании норм времени по ЕНиР; рассчитана на основании технических характеристик выбранного бульдозе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1981080" y="774720"/>
            <a:ext cx="562140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63840" y="88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количества скрепе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040" y="5940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количества скреперов необходимо определить их эксплуатационную сменную производительность. Она может быть: введена вручную, в т.ч. рассчитана на основании норм времени по ЕНиР; рассчитана на основании технических характеристик выбранного скрепе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2336760" y="666720"/>
            <a:ext cx="4998960" cy="521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10-19T14:07:16Z</dcterms:modified>
  <cp:revision>260</cp:revision>
  <dc:subject/>
  <dc:title>Слайд 1</dc:title>
</cp:coreProperties>
</file>