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B7C-FA2B-4F7C-8466-5EE4FC4C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5AE-59B7-4A57-AC84-4A4DC854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30D-E2AC-456D-8596-5DF243DA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7D3-50B0-407D-8FC2-16388F90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8058-FDD0-415C-B23F-7F98FEDC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4307-CD28-4A3B-83AB-89E9CB5E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2953-7B28-4CC2-811F-7B8D584F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6CB1-EA88-44BE-9997-969AEE7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C44-7C1A-4698-8B90-6210E39D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536-8D63-4D60-B761-4C8DAA55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2173-739C-4A7A-A181-56FE48A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998-3920-4228-8D0D-79BE77ED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9A5-01DE-4FD3-9E11-372E084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8C8-D897-40AD-8E1A-B7EFB24F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781-C214-4AA0-8514-37A1A7C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9F15-47B1-4A66-9EA8-FB9953A9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283A-D23F-47D0-8B68-0ED3614A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9E3-E715-4349-9FA3-A856F59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42B-916C-4527-901F-F0E815C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73A-43DB-40C5-B48C-422D260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5E9-7269-4209-BA6C-BFAF156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29D-21C0-480F-9ECE-93D11A6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81B-2305-4521-BD98-B0D0C15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5E4-F417-4B29-B0CD-63A8C062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1521-BB6F-4EFD-936C-46411A460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3458-103F-499F-B787-661B0C413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дорог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дорог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площадок (разгрузочных, разворотных, разъездов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количества  материалов, необходимых для устройств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41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й дороги автоматически рассчитывается количество материалов для устройства дороги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вставить в чертеж схему устройства и таблицу расхода материалов, настроить вид в пл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390680" y="968400"/>
            <a:ext cx="627840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57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льзователь может задать следующие параметры дороги: ширина, радиусы поворота, уширение в кривых, ширина обочины. Кроме того, можно управлять параметрами отображения пересекающихся доро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19080" y="1457280"/>
            <a:ext cx="740592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араметры отображения пересекающихся доро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57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ересечений дорог можно задать разные настройки (обочины, штриховку и т.п.). Кроме того, необходимо выбрать главную дорогу для конкретного пересечения. Площадь пересечения входит в площадь главной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47840" y="1209600"/>
            <a:ext cx="50864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параметров отображения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578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настройки отображения разных элементов дороги (трасса, штриховка, обочина и т.д.) в плане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57520" y="1471680"/>
            <a:ext cx="562896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й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43040" y="51148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изображениях временных дорог на чертеже автоматически строятся радиусы закругления и уширения в кривы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889520" y="1652760"/>
            <a:ext cx="3584520" cy="3162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23880" y="1633680"/>
            <a:ext cx="3692520" cy="3189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03560" y="279072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ходный конт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5360" y="26290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дороги 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кой ушир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1000" y="2754360"/>
            <a:ext cx="803520" cy="396720"/>
          </a:xfrm>
          <a:prstGeom prst="rightArrow">
            <a:avLst>
              <a:gd name="adj1" fmla="val 50000"/>
              <a:gd name="adj2" fmla="val 50635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5267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дороги предусмотрена возможность построения на чертеже схемы устройства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013120" y="1360440"/>
            <a:ext cx="5373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63840" y="266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95320" y="3552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для устройства временной дороги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851040" y="1549440"/>
            <a:ext cx="76071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9-04-26T12:16:17Z</dcterms:modified>
  <cp:revision>264</cp:revision>
  <dc:subject/>
  <dc:title>Слайд 1</dc:title>
</cp:coreProperties>
</file>