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4979-679D-4CA1-8ED5-0ACED50C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30C-BE5F-4568-BC47-C149AC96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2751-B151-403A-B92E-C4FFF4AF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4798-A70D-48F8-9F49-4A40D55A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BBB6-A546-4F23-AC43-749DC1FA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8060-69BC-4C1B-A600-B477BE6C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9D61-33C9-4AE6-89A4-7631842F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8C8C-A04C-4739-B80A-5E127322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1819-5E81-4B72-9228-EC11A5DC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AF85-BD61-4052-9D7C-BC0D1F92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B8EB-3A59-4D11-81E1-36E725FD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594-BC0D-4611-8434-87716316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68D6-09CC-4FD4-A5B9-715DEA5D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9D5C-E192-49F8-98E2-852AB018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B1D0-3F36-4DF2-A77E-72AC99F9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7C70-002F-45BD-8765-6F7A5D20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4C52-8C4D-47F2-862C-A4946664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CAA-0FE2-4D2F-860C-5CDAB57F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8601-01D0-47FB-B8FF-CC211098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05A7-8436-4481-9E01-320438A1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415D-1053-4E9D-98B5-49A18C24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FE7-0700-4647-A41E-C586D32E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C95B-5E09-45C1-BE16-C8E1D07D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B2D-4224-4700-9C50-0D8A67F4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F68D-25AE-4E71-A506-E32C780951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E9BD-032A-4FCC-8D75-98DF84C4D1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145040"/>
            <a:ext cx="770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Общие сведе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о программном комплекс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36480" y="1038240"/>
            <a:ext cx="8121600" cy="55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ограммный комплекс "Гектор: Проектировщик-строитель" предоставляет пользователям уникальный инструмент для разработки необходимой и обязательной для строительства документации: проекта организации строительства, проекта производства работ, технологических карт и т.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ля каждого вида строительства приведен полный набор разрабатываемых  документов, их разделов и отдельных задач, по каждой задаче даются  основополагающие нормативные документы и методики разработки проектных решений, примеры апробированных проектных реш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 разработке и постоянном совершенствовании продукта активно участвуют опытные проектировщи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ля каждого разрабатываемого проектного решения по разделу/задаче ПОС и ППР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иводятся нормативные и методические документы с удобными средствами поиска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излагается существо задачи и требования к содержанию исходной и выходной информации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аются примеры апробированных проектных решений в электронном виде, которые могут служить хорошей основой для собственных проработок (шаблоны - эталоны решений);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едставляются современные средства автоматизации выпуска расчетной, графической и текстовой документации (программные модули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значение программного комплекс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50880" y="1363680"/>
            <a:ext cx="8121600" cy="53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ограммный комплекс "Гектор: Проектировщик-строитель" уникален и не имеет аналог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труктурированный перечень разделов и задач ПОС и ППР значительно облегчает проектировщику поиск необходимых нормативных и методических материалов и примеров выполненных разработок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аличие программных модулей позволяет автоматизировать решение наиболее трудоемких и сложных задач и снизить трудоемкость разработки соответствующих разделов проектной документац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добные и технологичные интерфейсы обеспечивают возможность простого ведения и пополнения электронного технического архи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спользование имеющихся графических и документальных баз данных значительно облегчает работу проектировщи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ограммный комплекс "Гектор: Проектировщик-строитель"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- инструмент, необходимый проектировщикам ПОС и ППР, инженерам групп подготовки производства, преподавателям и студентам ВУЗ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лностью совместим с графическими пакетами AutoCAD и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rics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CAD последних верс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ограммный комплекс позволяет работать как в локальном режиме на отдельном компьютере, так и в сетевом режиме с поддержкой одновременной работы нескольких пользователе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комплекс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36480" y="1528920"/>
            <a:ext cx="8121600" cy="40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меет действующий сертификат соответствия RA.RU.АБ86.H00951, выдан ООО ЦСПС - органом по сертификации программной продукции в строительстве, срок действия с 01.09.2016 по 31.08.2018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меет свидетельство об официальной регистрации программы для ЭВМ № 200761352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гражден Золотой медалью "Лауреат ВВЦ" уд. 2456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Является Победителем конкурса лучших ИТ-решений "Продукт года" всероссийской выставки информационных технологий SofToo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екомендован к использованию в московском строительстве экспертной комиссией по новой техник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3840" y="2937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ертификаты и наград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комплекс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63480" y="1406520"/>
            <a:ext cx="812160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мфортная, всесторонняя и оперативная поддержка по телефону или по электронной почт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сультации в помещении фирмы или с выездом в офис пользовател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астие в регулярных бесплатных семинарах и вебинар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едоставление демоверсии и презентации по программному комплекс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ьготное получение новых верс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99ff99"/>
                </a:solidFill>
                <a:latin typeface="Times New Roman"/>
              </a:rPr>
              <a:t>Мы призываем к сотрудничеству специалистов по организации и технологии строительства: поставленные Вами типовые задачи, имеющие общий интерес, будут решаться и поставляться на безвозмездной основ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63840" y="2937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льзователям программного комплекса гарантируетс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563840" y="204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ак нас най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0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98360" y="858960"/>
            <a:ext cx="869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Адрес НТЦ "Гектор": г. Москва, ул. Огородный проезд, д. 20,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стр. 1, 7 этаж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сайт 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http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://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www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gektorstroi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mail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support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@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gektorstroi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Тел./факс: (495) 510-15-4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ТЦ "Гектор" поддерживает и постоянно развивает сеть представителей в Москве и регионах России. Обратившись к нашим партнерам Вы всегда можете рассчитывать на самый высокий уровень обслуживания. По вопросам сотрудничества и получения дополнительной информации обращайтесь в отдел по работе с партнер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02040" y="3745080"/>
            <a:ext cx="4113360" cy="21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99"/>
                </a:solidFill>
                <a:latin typeface="Times New Roman"/>
              </a:rPr>
              <a:t>Как к нам проехать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т м. Тимирязевская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Автобусом 19 до остановки "Пивоваренный завод" (3-я остановка) или маршрутным такси 319 до остановки "Пивоваренный завод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Автобусами 12, 126, 23 до остановки "Огородный проезд" (2-я остановка)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522360" y="3354480"/>
            <a:ext cx="4159080" cy="34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8-26T11:04:54Z</dcterms:modified>
  <cp:revision>135</cp:revision>
  <dc:subject/>
  <dc:title>Слайд 1</dc:title>
</cp:coreProperties>
</file>