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F43-A686-4024-891A-B8B4E544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55A-C4C9-4395-8526-123D4235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4D8-2778-4883-B593-D0A8A598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1B3-8291-4737-A8F3-47DDEA9B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50C-929B-47F3-96DF-E3687B75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E6F1-3E09-4B54-9F3E-CC9FB118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B259-6BAB-42F5-9C4A-77C7880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56FF-FAD8-4CF0-B925-D4767FF7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62B8-B6C2-42D1-8718-5D9C664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37A9-BC27-4F2F-953F-2B035AE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D77D-1A56-46E4-AFBC-F44EE05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5D1-FBC0-4C75-8CA1-84DA893D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8183-5991-4827-B139-094C9FE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8C66-F371-40A5-B3D6-F4F30406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2CF-E606-496F-BAFA-0C313F40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669-2F96-4E04-A63F-E037EA78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44B1-59C0-4BF0-9FB8-D36E36E6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2FC-ADE7-4D4B-BEF3-DA9AA62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142-8E9B-4F91-85F3-DEB4704C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EBE-F5FB-468E-9905-7867D00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43B-AEB2-4063-9C2A-EA54320A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9B3-2440-4C6E-94AF-99B8251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2160-E20D-41CC-BEA9-B349154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253-8B47-4B34-9404-DDB4293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E5DA-148A-4447-B7FE-356D7BF58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805-A287-45AC-B589-E477E73ED2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освещ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необходимой освещенности строительной площадки и участков производства работ, подбора, расстановки и расчета необходимого количества источников света и потребной для их питания мощ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 и расчет осветительных установок производится для рабочего (общего равномерного, общего локализованного или местного), аварийного, эвакуационного и охранного освеще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расчета временного освещения на строительной площадк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взаимосвязанные технологические справочники участков строительных площадок и работ, параметров осветительных  установок для разной нормируемой освещенности, типы прожекторов и ламп, минимально допустимая  высота установки прожекторов/светильников и т.д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9880" y="4929120"/>
            <a:ext cx="758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участки стройплощадки (производства работ) и ввести для каждого из них необходимые показатели по требуемым типам освещ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2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0,5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локализованное (локальное) или мест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варий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эвакуацион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хранное осв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13040" y="809640"/>
            <a:ext cx="58467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щее равномер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6240" y="545472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общего равномерного освещения строительной площадки при нормируемой освещенности (2 или 0,5 лк) необходимо ввести список участков с нужным типом освещения. По каждому из участков задаются следующие показатели: нормируемая освещенность,  ширина и длина участка,  параметры осветительных установо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73320" y="1373040"/>
            <a:ext cx="4919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окальное, аварийное, эвакуационное и охран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7624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локального, аварийного, эвакуационного или охранного освещения необходимо на соответствующей вкладке ввести список участков с нужным типом освещения. По каждому из участков задаются следующие показатели: тип участка, длина и ширина участка, параметры осветительных установок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367000" y="1638360"/>
            <a:ext cx="494496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освещения для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370720" y="0"/>
            <a:ext cx="77328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085840" y="1276200"/>
            <a:ext cx="5513400" cy="425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76240" y="568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документ будет выведена следующая информация: исходные данные, рассчитанные значения, формулы, использованные для расчетов, таблицы с нормативно-справочной информацией,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8:14Z</dcterms:modified>
  <cp:revision>288</cp:revision>
  <dc:subject/>
  <dc:title>Слайд 1</dc:title>
</cp:coreProperties>
</file>