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197-BBEA-4D70-8EF3-747D6818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359-D875-4CBA-8246-5D47F3CF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3D3-3505-4A60-95C2-D4181915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4B8-4EFC-41DB-B39A-1A735DB3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27DA-50CD-4A17-9241-336AEB36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2FD0-5833-436B-B038-C48C3709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7294-69B6-4321-B9C9-431150B8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D65C-6BB6-44B5-A6C1-6D27D191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05A0-CCE6-413F-B8A7-872C0BB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AB58-8051-4EC1-8FAE-8D017D0B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AEDC-BBB1-42EE-9BF6-8C0C1D6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1BE-A7BA-4C01-A2E6-AE8C5BA1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56EB-E298-41E0-B6F4-F4E2CD61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DDFE-4C51-45EC-B9AE-69F3180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F191-72D7-4230-B346-3F3B8907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A9DD-F2A5-48FD-A1F1-5DF39B03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10CA-C21E-4F66-9A17-0FD63ABC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FB4-5EF2-474A-9E08-88BED3E5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830-D2C9-4964-88D8-CF220659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D00-53C8-42E1-94CB-AAA86399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B8C-DA46-46A0-9886-1CE5C5B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F2B-1A3C-4807-96ED-5352020C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FD3-8178-4397-8D5C-493952D0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A7F-BAB4-4932-8168-F6CA9865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7750-0E9C-4E14-816E-321C7084BD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3107-320F-4AAA-B343-580C92601C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сновные возможнос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Отбор объе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76440" y="5540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отбора объектов в электронном техническом архиве по решаемым разделам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ам ПОС и ПП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004760" y="1328760"/>
            <a:ext cx="751068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563840" y="2412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Автоматизация разработки сложных разделов и задач проектной документац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9440" y="1314360"/>
            <a:ext cx="8121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остав программного комплекса входят программные модули, предназначенные для автоматизированного решения наиболее сложных и трудоемких задач организационно-технологического проект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решения графических задач в программных модулях используется система AutoCAD компании Autodes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ли систем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icsCAD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пании Bricsys NV. С помощью CAD-системы выполняются графические построения и формируется выходная документация с использованием баз данных программного комплек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шение расчетных задач базируется на применении СУБД и различных математических метод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полнительная исходная информация, необходимая для работы программных модулей, содержится в технологических справочниках программного комплек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е модули обеспечивают решение задач, влияющих на уровень технологической дисциплины в реальных условиях стройки  и которые являются предметом контроля состояния строительного объекта и строительной площадки со стороны проверяющих орган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63840" y="2412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Автоматизация разработки разделов и задач ПОС и ППР с использованием программных модулей в </a:t>
            </a: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CAD</a:t>
            </a: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-систем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76440" y="57182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 помощью CAD-системы выполняются графические построения и формируется выходная документация с использованием баз данных программного комплекса. Имеется возможность настройки свойств (слоев, стилей и типов линий) графических построений, выполняемых с помощью программных модул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820800" y="1641600"/>
            <a:ext cx="3647880" cy="3919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5097600" y="1647720"/>
            <a:ext cx="356364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63840" y="16524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троительная тех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76440" y="59976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аименований марок строительной техники, структурированных по основным видам техники. По маркам техники приводится их техническое описание, фото, схемы устройств и чертежи в формате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WG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1461960" y="1133640"/>
            <a:ext cx="667224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63840" y="11448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Типы временных огражд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1165320" y="1074600"/>
            <a:ext cx="7223040" cy="4862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76440" y="6048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аименований типов ограждений, их графическое представление и список материалов, необходимых для устройства ограждения данного типа, включая нормы расхода на 100 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расхода воды на производственные нуж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нормы расхода воды на производственные нужды по потребителям в литрах на единицу в смен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509760" y="1560600"/>
            <a:ext cx="812448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потребности в электроэнергии на строительную техни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нормы потребности в электроэнергии на строительную технику в кВт на единиц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752400" y="1697040"/>
            <a:ext cx="7734240" cy="37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63840" y="241200"/>
            <a:ext cx="6576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Параметры осветительных установок общего равномерного освещения при нормируемой освещенности 2 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анный справочник предназначен для учета параметров осветительных установок общего равномерного освещения строительных площадок при нормируемой освещенности 2 л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1122480" y="2004840"/>
            <a:ext cx="7103880" cy="36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Марки грузов и грузозахватные приспособления для разгрузки и монтаж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марок грузов и грузозахватных приспособлений для их разгрузки и монтаж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649520" y="1581120"/>
            <a:ext cx="64278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складирования материалов и издел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орм складирования количества материалов и изделий, укладываемых на 1 м2 площади склада (без учета проходов и проездов) и норм запа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92000" y="1352520"/>
            <a:ext cx="80330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63840" y="88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боснованная структура разделов и задач для разработки ПОС и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76440" y="5364000"/>
            <a:ext cx="812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из основных видов строительства разработана структура разделов и задач ПОС и ППР. Для каждого раздела и задачи приведены соответствующие нормативные, методические документы и примеры выполненных разработок. Решения типовых задач реализованы в программных модулях, обеспечивающих выполнение необходимых расчетов, графических построений и формирование текстовой документации. Перечень разделов и задач ПОС и ППР содержит около 500 наименов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376280" y="1082520"/>
            <a:ext cx="6834240" cy="42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хемы склад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 схем складирования материалов и изделий с графическими изображения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295280" y="1243080"/>
            <a:ext cx="695016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Виды строительных грун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1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1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76440" y="57182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видов грунтов с указанием плотности, коэффициента разрыхления, группы грунтов в зависимости от трудности их разработки механизированным способом одноковшовыми экскаваторами, скреперами, бульдозерами и грейдерами, максимально допустимой крутизны отко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89040" y="1293840"/>
            <a:ext cx="8172360" cy="42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Временные здания и соору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2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676440" y="5832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структурированный перечень временных зданий и сооружений, сгруппированный по видам, список назначений текущего здания с нормативными показателями (полезная площадь или расчетное количество человек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1395360" y="1155600"/>
            <a:ext cx="6353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563840" y="7632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продолжительности строитель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76440" y="62262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структурированный перечень норм продолжительности строительства в соответствии с документами: СНиП 1.04.03-85*, МРР-3.2.81-12, МДС 12-43.200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2166840" y="1139760"/>
            <a:ext cx="5392800" cy="49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63840" y="88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ормативно-методическа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снова разрабо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76440" y="5199120"/>
            <a:ext cx="8121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оставляется удобный доступ к нормативным, справочно-методическим документам, текстовым, цифровым, табличным и графическим материалам. Принцип поиска нужных материалов - идем от конкретной задачи структурированного перечня. Следует подчеркнуть простоту поиска материалов с использованием электронных закладок; проектировщику требуется только задать нужный ему раздел/задачу и все соответствующие материалы будут в его распоряжении. Таким образом, проектировщик, решая конкретную задачу, имеет возможность использовать все имеющиеся по данной задаче материал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495440" y="1041480"/>
            <a:ext cx="6680160" cy="41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Объе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76440" y="56991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предоставляет возможность создавать, вести и использовать для повседневной работы электронный технический архив. В архиве можно регистрировать объекты и всю проектную документацию по ним, выбирать объект для последующей работы с ним, продолжать работу над документами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66720" y="1128600"/>
            <a:ext cx="798516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Регистрация объ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76440" y="4613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егистрации нового объекта необходимо ввести его наименование и задать вид объекта. Кроме этого, можно автоматически создать для нового объекта  структуру разделов и задач ПОС и ППР на основе соответствующего справочника со всей информацией (включая файлы примеров, нормативных материалов, методик и т.п.), относящейся к решаемым задача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643040" y="1395360"/>
            <a:ext cx="635148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Разделы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задачи и документы ПОС и ППР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6440" y="61246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электронном техническом архиве по объекту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регистрировать проектные документы отдельно по каждому разделу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е ПОС и ПП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660240" y="1654200"/>
            <a:ext cx="815832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Регистрация проектного документа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305000" y="1668600"/>
            <a:ext cx="6927840" cy="3189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76440" y="50068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егистрации проектного документа по объекту необходимо выбрать раздел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у, к которой он относится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сти наименовани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кумента и указать на файл докуме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Показатели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6440" y="6048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обеспечивает возможность ввода и хранения в электронном техническом архиве по объекту пользовательских показателей и показателей программных модул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257480" y="1190520"/>
            <a:ext cx="704340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63840" y="27936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троительная техника на объек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76440" y="54896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обеспечивает возможность ввода и хранения в электронном техническом архиве по объекту списка строительной техники с указанием ее количества по каждой марке. Список техники формируется с использованием справочника строительной техники или вручную.  Обеспечивается возможность печати ведомости потребности в основных строительных машинах и механизмах на объекте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1036800" y="1371600"/>
            <a:ext cx="75387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38:05Z</dcterms:modified>
  <cp:revision>266</cp:revision>
  <dc:subject/>
  <dc:title>Слайд 1</dc:title>
</cp:coreProperties>
</file>