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4EB9-6EBB-486A-A960-316A46763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778B-617B-499D-B1FC-3A6B6C76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B6EA-0E40-4C50-B1DA-045950A8F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AA26-29B0-4A14-BC7D-46BDE1E26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C5D40-C6C5-40AA-B0E4-65B6C5E1D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C351-83BF-4CF0-897F-07A023DD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4E3B-6E0B-4CA7-82D5-003192BB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BED5-3263-472D-BD61-8ECC3C73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7E00F-2EC7-405B-9311-5EBF62B2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3803-F867-4990-AE76-3096E7B1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F4D4-F06C-4A68-93CD-4CF0F627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727F-B00A-442C-97C6-7D693B2C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9B85-4D6C-4062-8127-0420241A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8C41-6F67-481B-82A2-41861CAF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38F1-4010-4090-A816-45AB130F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2DB1A-E66B-4CF8-B14F-47A82C56A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4793C-5B5C-42F5-A5A2-42E441A05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1C30-BFBB-4B26-ACE2-7A001F6D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C4B3-BAFF-4542-BC25-31BBF506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E1B1-9252-4453-AF13-4C032FB4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2F67-6546-4362-83EC-DA74FB43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7A2D-98D6-446E-83A4-D459DB47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DB2B-A047-4DB5-B4AA-6AFC5318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E553-D08E-441E-A50E-2FC6999F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9082-532D-4477-A86F-74B0CAB661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0327-FF24-486F-AE70-1527623BD5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68720"/>
            <a:ext cx="770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Временное водоснабжение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563840" y="39384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диаметра труб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0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716040" y="411948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ограммный модуль позволяет произвести расчет необходимого диаметра труб временной водопроводной напорной сет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1639800" y="1328760"/>
            <a:ext cx="6643800" cy="257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результата расче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ременного водоснабжения для ПО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1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1500120" y="1407960"/>
            <a:ext cx="6448320" cy="510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результата расче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ременного водоснабжения для ППР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22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23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4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4"/>
          <a:stretch/>
        </p:blipFill>
        <p:spPr>
          <a:xfrm>
            <a:off x="1638360" y="1374840"/>
            <a:ext cx="6400800" cy="513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996840"/>
            <a:ext cx="8121600" cy="58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расчета потребления воды на строительной площадке для обеспечения производственных, хозяйственных и противопожарных нужд. Модуль обеспечивает автоматизированное формирование фрагментов пояснительной записки ПОС и ППР в части расчета временного водоснабжения на строительной площадке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Для формирования пояснительной записки ПОС расчет потребности в воде на производственные и хозяйственно-бытовые нужды производится по укрупненным показателям на 1 млн. руб. стоимости годового объема СМР с учетом отрасли и района строительства по расчетным нормам. Расход воды на противопожарные нужды принимается согласно нормативным документам. Также имеется возможность определения суммарного расхода воды на объекте и расчета диаметра труб временного трубопровода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Для формирования пояснительной записки ППР расчет потребности в воде на производственные нужды производится на основании данных о конкретных потребителях в наиболее загруженную смену. Расход воды на хозяйственно-бытовые нужды также определяется по конкретным потребителям по нормативным показателям. Расход воды на противопожарные нужды производится раздельно для наружного и внутреннего пожаротушения в соответствии с назначением и объемом зданий заданной функциональной пожарной опасности. Также имеется возможность определения суммарного расхода воды на объекте и расчета диаметра труб временного трубопровода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В программном модуле используются технологические справочники норм расхода воды на производственные нужды, норм количества воды на 1 млн.руб. годовой стоимости СМР, норм расхода воды на хозяйственно-питьевые нужды и пропускной способности труб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7308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6440" y="597384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ввести схему (вариант) водоснабжения, далее в зависимости от указанного типа расчета задать ряд показателей, необходимых для расчета расхода воды на производственные, хозяйственно-бытовые нужды и пожаротуше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901800" y="952560"/>
            <a:ext cx="7421400" cy="494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31752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вод схемы (варианта) водоснабжени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76440" y="464040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ввода схемы (варианта) водоснабжения необходимо задать его наименование и указать тип расчета. При необходимости можно изменить значения коэффициентов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584360" y="1319040"/>
            <a:ext cx="634824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временного водоснабжения с учетом работы производственных потребителей (для ППР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вод производственного потребите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76440" y="524988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Ввод производственных потребителей для расчета потребления воды на производственные нужды производится с использованием справочника норм расхода воды,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справочника строительной техники, списка строительной техники на объекте  или задается вручную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521000" y="2246400"/>
            <a:ext cx="6600600" cy="263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временного водоснабжения с учетом работы производственных потребителей (для ППР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расхода воды на хозяйственные нужды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716040" y="563076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расчета потребления воды на хозяйственные нужды необходимо ввести численность работающих в наиболее загруженную смену. При необходимости можно уточнить число часов в смене, а также задать ряд показателей для учета водоснабжения душевых и столово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676440" y="2568600"/>
            <a:ext cx="8151480" cy="295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563840" y="291960"/>
            <a:ext cx="6576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временного водоснабжения по укрупненным показателям годовой стоимости СМР (для ПОС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расхода воды на производственные и хозяйственно-бытовые нужды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716040" y="573264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счет расхода воды на производственные и хозяйственно-бытовые нужды производится на основании справочника норм количества воды на 1 млн. руб. годовой стоимости СМР по отраслям промышленност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611280" y="2612880"/>
            <a:ext cx="8186760" cy="29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563840" y="44460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расхода воды на пожаротушени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(для ПОС и ППР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8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716040" y="465300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ля расчета потребления воды на пожаротушение сначала необходимо задать способ расчета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окумент - основание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):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МДС 12-46.2008, МГСН 1.01-99 или СП (строительные правила). Далее ввести все показатели, необходимые для расчета расхода воды для выбранного способа расче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569880" y="1509840"/>
            <a:ext cx="8163000" cy="296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общего потребления воды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на объекте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9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9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716040" y="452592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ограммный модуль позволяет произвести расчет максимально возможного потребления воды на стройплощадке на производственные и хозяйственно-бытовые нужды (без учета пожаротушения) по выбранным схемам (вариантам) временного водоснабжени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4"/>
          <a:stretch/>
        </p:blipFill>
        <p:spPr>
          <a:xfrm>
            <a:off x="1822320" y="1574640"/>
            <a:ext cx="6351840" cy="2741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4-10-15T13:18:12Z</dcterms:modified>
  <cp:revision>215</cp:revision>
  <dc:subject/>
  <dc:title>Слайд 1</dc:title>
</cp:coreProperties>
</file>