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B79B-C476-4231-B24A-43F59AED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8E99-E0DC-4418-AF4C-C75FF2FC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86E-A3FE-4B31-8F0C-6390327C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3D0-5FA2-4455-844B-606774C4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903A-2000-4FA4-A831-7B485899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61C7-713F-4084-8A51-BD6EE962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7B21-92F4-4EB6-8701-C03C4212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6C28-0DFE-48E8-89DD-30F8DC3D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8B64-C84B-450D-9D8C-9226832E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D8A8-C8B4-46E9-88FC-D85E3071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0E4D-B722-40CE-B7B2-E5F7FC6D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FD8-F9C9-42F1-BF40-A6664412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B729-F2A6-4ADE-BB4B-621E38E7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4FF0-B58E-4316-AE35-CD833670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3D3C-3114-484A-AB89-5D50B1B7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2FC3-0D0A-4853-B013-72F8A080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1967-42DB-43C8-9538-C093B952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60A-0251-4964-A4C8-53240014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DBC-410B-4628-A04B-E15D20F0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050-87D9-4FA7-90BD-5C3FA02F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F1C-3F96-4152-993D-72596F8F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A28-1B38-4234-A669-B371ADE5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42F-7791-4EC9-A75D-8A7F55AF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155-518C-488D-9E51-A2F14F64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391A-82F2-4652-9886-8ED588E095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7B42-A481-4CF1-B71B-930B689D1B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змещение складских площадок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262160" y="2168640"/>
            <a:ext cx="7137360" cy="31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построения на чертеже строительного генерального плана графических изображений складских площадок и складов на основании расчетных данных, загружаемых из программного модуля «Складские площадки»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Обеспечивается возможность коррекции загруженной информации, в том числе ввода новых видов склад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Имеется возможность вставки в чертеж таблицы экспликации размещенных складских площадок и склад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93800" y="559116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змещения складских площадок необходимо определить их виды и требующиеся площади. Далее нужно сформировать для выбранного вида складирования список складов с их размерами. Это можно выполнить  как вручную, так и загрузив информацию из модуля «Расчет потребности в складских площадках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752480" y="857160"/>
            <a:ext cx="6104160" cy="46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015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видов склад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960480" y="577224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обавление видов складов производится из соответствующего технологического справочника. Для выбора сразу нескольких видов складов необходимо отметить их флажк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798560" y="1303200"/>
            <a:ext cx="5907240" cy="36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152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стройка размещ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клада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06400" y="5162400"/>
            <a:ext cx="7589880" cy="15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еред размещением склада на чертеже имеется возможность настроить его параметры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тип контура склада (прямоугольник, произвольный, выбрать на чертеж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меры  (длина и ширина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тип штриховки склада (не задан, сетка, диагональная), для типов штриховки «Сетка» или «Диагональная» можно изменить масштаб (интервал) штрихов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751040" y="1544760"/>
            <a:ext cx="6024600" cy="32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152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стройка размещ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руппы складов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31960" y="5370480"/>
            <a:ext cx="758988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том случае, если количество складов  больше одного, перед размещением группы складов на чертеже имеется возможность дополнительно указать параметры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кол-во складов в ряду (по умолчанию все склады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стояние между складами в ряду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стояние между рядами склад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565360" y="1163520"/>
            <a:ext cx="4545000" cy="41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015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змещение складских площадо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893880" y="1762200"/>
            <a:ext cx="7565760" cy="327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7-01-10T13:23:31Z</dcterms:modified>
  <cp:revision>309</cp:revision>
  <dc:subject/>
  <dc:title>Слайд 1</dc:title>
</cp:coreProperties>
</file>