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698-A38A-4F8B-8BF2-E17C5327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418-9911-48EF-A7E2-F4A1E8C3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090-9BB7-4350-B317-5DA757D6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79A-5A0A-4E47-8E28-3D26ED23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56FB-CA9E-4AE2-8F21-CEE6F3BF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A6F-60F0-4152-AA10-4E0F272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520C-F95A-479A-AB79-3E6C004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BE4E-D193-42E2-96BE-52A722A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83C-5838-44E3-BB40-F8182182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7DE-5177-49AB-9E31-CF957F5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4993-BA9F-46E1-8CBA-275C1DE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96D-6042-4589-AA5B-40083D23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F870-76C2-4F04-83FC-D02DFD2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B0DF-6C6A-4A9E-9777-1A83FAC2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32CA-27CB-49E4-BFE2-CB3560B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37BC-D527-456C-84AC-3E3EAC54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DBB9-B842-4A23-A61A-1F193F06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149-3CD4-4ABC-AB29-83CD6BDD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841-EA00-4566-BA65-189CA97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2BA-77F1-410E-9967-AD07068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B3B-0FCF-4244-B1D7-4385A0CA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7BE-3832-4952-AE84-E936F40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4A8-4445-4180-834B-4D3C354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904-CCF7-42D8-AD26-F443562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60EC-A10A-4F9A-A8C3-96762C606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EBB9-FC89-480B-BE02-AE9D5671C9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мачтовых подъемн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грузовых и грузопассажирских мачтовых подъемников по грузоподъемности и высоте подъема груз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мачтовых подъемников в плане и разрез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бор подъемников формируется в таблице и сохраняется в чертеже. Подъемники в наборе можно изменять и удалять. Для выбранных в таблице подъемников можно построить изображения в плане и разрезе, а также вставить или удалить вынос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60440" y="963720"/>
            <a:ext cx="51642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мачтового подъем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625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ачтовые подъемники можно подобрать по грузоподъемности, максимальной высоте подъема и возможности горизонтального перемещения груза. Высота подъемника подбирается автоматически в соответствии с заданными парамет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52600" y="922320"/>
            <a:ext cx="50166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мачтовых подъемников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88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й выбранного подъемника в плане и разрезе с указанием масштаба построения. Дополнительно могут быть построены условные обозначения опасных зон и размеры подъемника и опасной зо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1240" y="1195560"/>
            <a:ext cx="3993840" cy="2662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25400" y="1203480"/>
            <a:ext cx="4005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мачтового подъемник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81360" y="2541600"/>
            <a:ext cx="2485800" cy="353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710320" y="1362240"/>
            <a:ext cx="2270160" cy="51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24:51Z</dcterms:modified>
  <cp:revision>248</cp:revision>
  <dc:subject/>
  <dc:title>Слайд 1</dc:title>
</cp:coreProperties>
</file>