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4C03-653C-4E5C-861C-5A964285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55BA-5081-48B2-B401-85F03A8D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1A9D-DD6D-4C7D-BC2E-22FC26F1A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A4FC-5D92-4B29-B3E5-0A40BF827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38A3-DE36-4DF6-B798-D1F0499A5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7440-BE0B-4D8E-8FC6-27AFEE67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ED31-061F-4338-A907-91C54AAC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3FDB-60A0-45B8-BA79-01662CE9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4918-FBB7-4800-93AC-FCB6D3B8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6E5E-8C3A-4A77-909D-3F6D5F75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C1BA-C3A9-4155-8B81-E1290F92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011D-A2C7-4B66-B74D-1B823B6B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403B-47D4-4218-967A-51B35A4C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12C7-4695-451E-B08F-49958627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5386-9EBE-4A0E-9E34-8CC42EE2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4AF9-DCD4-469B-A8B9-ADDA01DA0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756C-C431-470A-9DF9-DD33FD09D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948E-7AAB-49A7-B0D3-00DB1984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F625-E383-4DB9-9F01-2FE7D3B6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712D-6CA4-4246-9653-AC01768E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2B1B-CC04-434E-BA6C-BF334101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4E29-9987-416A-8CC5-C88D70FA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F37F-61F5-4FC5-B206-CCA97745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D25E-3B08-4A36-A21A-BD4A3452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4334-DA41-4887-A55D-70A166767E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7143-B556-41DE-9DCC-8BD9642160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145040"/>
            <a:ext cx="77076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Календарное планирование производства работ» (ППР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547640" y="1890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графика потребности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  машинах и механизма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0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779400" y="1589040"/>
            <a:ext cx="6029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611280" y="1197000"/>
            <a:ext cx="820872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547640" y="11592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графика движения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бочих кадров по объекту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1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779400" y="1589040"/>
            <a:ext cx="6029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4"/>
          <a:stretch/>
        </p:blipFill>
        <p:spPr>
          <a:xfrm>
            <a:off x="828720" y="1125360"/>
            <a:ext cx="799128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193760"/>
            <a:ext cx="8121600" cy="54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составления календарных планов производства работ по возведению здания, сооружения или его части на уровне документации для ПП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составляемом календарном плане производства работ устанавливаются последовательность и сроки выполнения работ с максимально возможным их совмещением. Исходной информацией для календарного плана служат показатели сметных расчетов: перечень работ, необходимые для выполнения работ ресурсы, трудоемкость выполнения рабо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программном модуле реализованы простые и эффективные способы взаимоувязки выполняемых работ, что дает возможность легко и быстро построить сетевую модель и оптимизировать продолжительность выполнения работ для различных вариантов их выполнения. Предусмотрена возможность учета фактически выполненного объема рабо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граммный модуль позволяет формировать документы, предусмотренные составом и содержанием ППР: календарный план производства работ, графики потребности в материалах, машинах и механизмах, графики движения рабочей сил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4428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Максимальное использование результатов сметных расчето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5373720"/>
            <a:ext cx="8121600" cy="14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еализован импорт информации из сметных программ: в формате единого блока обмена АРПС 1.10 и в формате программы "Гектор: Сметчик-строитель". В программу календарного планирования автоматически загружается перечень работ из сметы, необходимые для выполнения каждой работы ресурсы, трудоемкость выполнения работ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едусмотрена возможность подключения любой сметно-нормативной базы данных и/или создания собственной базы данных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187280" y="981000"/>
            <a:ext cx="662472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030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етевая модель производства рабо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76440" y="551664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ростые и эффективные способы взаимоувязки работ позволяют легко и быстро построить сетевую модель. Можно задавать условия начала работы в зависимости от процента выполнения или количества дней после начала/до окончания какой-либо из взаимосвязанных работ календарного пла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619280" y="1000080"/>
            <a:ext cx="6095880" cy="43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1317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c00"/>
                </a:solidFill>
                <a:latin typeface="Times New Roman"/>
              </a:rPr>
              <a:t>Диаграмма Ган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76440" y="566100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ограммный модуль позволяет проводить многовариантные расчеты сетевой модели (критического пути, резервов времени) с оптимизацией по продолжительности выполнения работ при изменении количества машин и механизмов, составов бригад, технологических схем производства работ и других параметр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619280" y="838080"/>
            <a:ext cx="6121440" cy="47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189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мпорт объемов выполненных рабо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611280" y="566100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Ввод фактического выполнения объемов работ возможен посредством импорта актов выполненных работ из программ сметных расчетов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353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едусмотрен и ручной ввод фактических объемов для работы или группы рабо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547640" y="907920"/>
            <a:ext cx="619308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189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Многоуровневые календарные план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611280" y="58053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остроение многоуровневых вложенных календарных планов производства работ дает необходимую степень детализации календарных планов и возможность объединять календарные планы для управления ресурсами на уровне строительной организаци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1258920" y="836640"/>
            <a:ext cx="676908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547640" y="1890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календарного плана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изводства рабо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779400" y="1589040"/>
            <a:ext cx="6029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755640" y="1197000"/>
            <a:ext cx="7920000" cy="54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547640" y="1890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графика потребности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  материала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9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779400" y="1589040"/>
            <a:ext cx="6029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757080" y="1125360"/>
            <a:ext cx="7991640" cy="5543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6T07:31:33Z</dcterms:created>
  <dc:creator/>
  <dc:description/>
  <dc:language>en-US</dc:language>
  <cp:lastModifiedBy>-</cp:lastModifiedBy>
  <dcterms:modified xsi:type="dcterms:W3CDTF">2013-06-24T11:55:47Z</dcterms:modified>
  <cp:revision>188</cp:revision>
  <dc:subject/>
  <dc:title>Слайд 1</dc:title>
</cp:coreProperties>
</file>