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405AA-3548-423D-86E8-0940F4D01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B0F66-6EF5-4B8D-98A1-6692397A0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89BD5-46FE-488D-B106-FBA2A8E31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98A6B-73CA-478E-BEEF-D998A26CA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F8789-EECC-4C11-9C5E-E23573C00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A34E2-D781-46C3-83D6-9A1A14D2E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B274C-0BB2-4FBF-B517-29F104056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31A50-39DF-435D-90E1-FE7ACEFCF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40337-9DE0-4B77-A3A1-B61124FFC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21C89-5BAF-4A84-88FC-3E8B4CA2E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D24B9-DFE1-4BA4-813F-C01C79D62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2260E-DFF8-499E-B807-002BF31F8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9560A-C2F0-42A2-85BA-453278B8A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0A8E5-8C86-4838-8841-7334F9F20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44AA2-8EF3-4D19-AAEE-24F2634CB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8348A-91E5-4942-9A54-8D55699E8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FF2EF-105A-4DC4-82C3-C13E18784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93D9C-2512-46D6-9FF6-AF28EC086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15B0F-E584-4CCC-9EB2-67B5A21F0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1CF4E-C7CD-423B-9012-D7A2086F9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BE897-3223-4AEB-9BC0-EC55B25B0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CC042-0098-4EB2-94EF-11B1A5295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B8008-67E0-484A-A149-56D9E8415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AFB6E-DF66-4E0A-8837-304E38B86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D44FA-3A26-4AA5-ABC1-8DC2A624599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39A13-B17E-4926-931C-145F21A5EC1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61880" y="369720"/>
            <a:ext cx="1165320" cy="641520"/>
          </a:xfrm>
          <a:prstGeom prst="flowChartDecision">
            <a:avLst/>
          </a:prstGeom>
          <a:solidFill>
            <a:srgbClr val="006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000" y="243000"/>
            <a:ext cx="855504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Научно-технический центр «Гектор»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Программный комплекс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«Гектор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Проектировщик-строитель»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Версия ЭКСПЕРТ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Инструмент для разработки проектов организации строительства (ПОС),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проектов производства работ (ППР), технологических карт (ТК)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Свидетельство РФ о регистрации в Реестре программ для ЭВМ № 2007613520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185760" y="25884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8115480" y="26496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730080" y="4043520"/>
            <a:ext cx="8158320" cy="20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00"/>
                </a:solidFill>
                <a:latin typeface="Times New Roman"/>
              </a:rPr>
              <a:t>Программный модуль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Times New Roman"/>
              </a:rPr>
              <a:t>«Временное электроснабжение»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18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19" name="" descr="">
              <a:hlinkClick r:id="" action="ppaction://hlinkshowjump?jump=endshow"/>
            </p:cNvPr>
            <p:cNvPicPr/>
            <p:nvPr/>
          </p:nvPicPr>
          <p:blipFill>
            <a:blip r:embed="rId3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0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649440" y="1251000"/>
            <a:ext cx="8121600" cy="534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 algn="just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Times New Roman"/>
              </a:rPr>
              <a:t>Программный модуль предназначен для расчета потребности в электроэнергии на строительной площадке для обеспечения силовых и технологических нужд, внутреннего и наружного освещения. Модуль обеспечивает автоматизированное формирование фрагментов пояснительной записки ПОС и ППР в части расчета временного электроснабжения на строительной площадке.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268200" indent="-268200" algn="just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Times New Roman"/>
              </a:rPr>
              <a:t>Для формирования пояснительной записки ПОС расчет потребности в электроэнергии производится по укрупненным показателям на 1 млн. руб. стоимости годового объема СМР с учетом отрасли и района строительства по расчетным нормам. Расчет электрических нагрузок выполняется по периодам строительства или этапам работ по максимально возможной мощности потребления.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268200" indent="-268200" algn="just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Times New Roman"/>
              </a:rPr>
              <a:t>Для формирования пояснительной записки ППР расчет потребности в электроэнергии определяется по установленной мощности электроприемников с учетом коэффициента спроса и распределения электрических нагрузок по времени. Общая потребность в электроэнергии рассчитывается на период максимального расхода и в часы наибольшего ее потребления. Рассматриваются следующие группы потребителей: строительная техника, технологические процессы,  внутреннее освещение, наружное освещение и сварочные трансформаторы.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268200" indent="-268200" algn="just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Times New Roman"/>
              </a:rPr>
              <a:t>В программном модуле используются технологические справочники норм количества электроэнергии на 1 млн.руб. годовой стоимости СМР, нормы потребности в электроэнергии на строительную технику, нормы потребности в электроэнергии на технологические процессы, норм потребности в электроэнергии на внутреннее освещение, норм потребности в электроэнергии на наружное освещение, нормы потребности в электроэнергии на сварочные трансформаторы.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511280" y="174600"/>
            <a:ext cx="65772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Краткое описание функций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программного модуля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25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26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7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563840" y="21600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Главное окно программного модуля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3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3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76440" y="5973840"/>
            <a:ext cx="8121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Необходимо ввести схему (вариант) электроснабжения, далее в зависимости от указанного типа расчета задать показатели, необходимые для расчета расхода электроэнергии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1536840" y="812880"/>
            <a:ext cx="6391080" cy="5062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1563840" y="30492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Ввод схемы (варианта) электроснабжения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4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4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676440" y="4551480"/>
            <a:ext cx="8121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Для ввода схемы (варианта) электроснабжения необходимо задать его наименование и указать тип расчета. При необходимости можно изменить значение коэффициента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4"/>
          <a:stretch/>
        </p:blipFill>
        <p:spPr>
          <a:xfrm>
            <a:off x="1279440" y="1387440"/>
            <a:ext cx="6924600" cy="267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1563840" y="291960"/>
            <a:ext cx="657684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Расчет временного электроснабжения на основе мощности потребителей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(для ППР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Ввод потребителя электроэнергии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5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5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676440" y="5376960"/>
            <a:ext cx="81216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Ввод потребителей для расчета потребности в электроэнергии осуществляется по группам потребителей (строительная техника, технологические процессы,  внутреннее освещение, наружное освещение и сварочные трансформаторы) с использованием справочников норм потребности в электроэнергии,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справочника строительной техники, списка строительной техники на объекте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 или задается вручную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4"/>
          <a:stretch/>
        </p:blipFill>
        <p:spPr>
          <a:xfrm>
            <a:off x="1488960" y="2259000"/>
            <a:ext cx="6604200" cy="286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1563840" y="291960"/>
            <a:ext cx="657684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Расчет временного электроснабжения по укрупненным показателям годовой стоимости СМР (для ПОС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6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6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/>
          <p:nvPr/>
        </p:nvSpPr>
        <p:spPr>
          <a:xfrm>
            <a:off x="716040" y="4830840"/>
            <a:ext cx="81216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Расчет потребности в электроэнергии на основе нормативных показателей годовой стоимости СМР производится на основании справочника норм количества электроэнергии на 1 млн. руб. годовой стоимости СМР по отраслям промышленности. Для расчета данным способом необходимо ввести ряд показателей (годовая стоимость СМР, отрасль промышленности, индекс пересчета)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4"/>
          <a:stretch/>
        </p:blipFill>
        <p:spPr>
          <a:xfrm>
            <a:off x="954000" y="1992240"/>
            <a:ext cx="7593120" cy="248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1563840" y="291960"/>
            <a:ext cx="65768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Печать результата расчета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временного электроснабжения для ПОС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7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7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4"/>
          <a:stretch/>
        </p:blipFill>
        <p:spPr>
          <a:xfrm>
            <a:off x="1557360" y="1384200"/>
            <a:ext cx="6334200" cy="510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1563840" y="127080"/>
            <a:ext cx="65768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Печать результата расчета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временного электроснабжения для ППР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82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83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4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86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pic>
        <p:nvPicPr>
          <p:cNvPr id="287" name="" descr=""/>
          <p:cNvPicPr/>
          <p:nvPr/>
        </p:nvPicPr>
        <p:blipFill>
          <a:blip r:embed="rId4"/>
          <a:stretch/>
        </p:blipFill>
        <p:spPr>
          <a:xfrm>
            <a:off x="1592280" y="1092240"/>
            <a:ext cx="6315120" cy="55879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8T10:55:39Z</dcterms:created>
  <dc:creator/>
  <dc:description/>
  <dc:language>en-US</dc:language>
  <cp:lastModifiedBy>-</cp:lastModifiedBy>
  <dcterms:modified xsi:type="dcterms:W3CDTF">2014-10-15T13:45:25Z</dcterms:modified>
  <cp:revision>217</cp:revision>
  <dc:subject/>
  <dc:title>Слайд 1</dc:title>
</cp:coreProperties>
</file>