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13F-E43E-454F-A383-974A5BB5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63A-1567-47E5-8C01-A05DAFB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A7A-25CE-4215-BB3A-A470F9CF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7B6-2056-4A81-8279-923C0D3D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A16-9804-446D-9A32-9148CCCE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05D-2FC9-4F30-8C42-59EBC0DD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87CF-CF1B-45BB-82BD-BC2C7710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5A9F-1A03-4A92-8310-3905C38F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B00-688A-4F90-877D-41327B2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955-3F17-48B7-88DF-ADFEAD57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947C-A201-41FC-92D5-1B1491A2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E64-D607-4233-9D48-AFF91DF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CC1-62F4-4821-A950-566C54A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75C2-1666-4402-B9BD-FC663DB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60A8-49C5-4B57-AE2E-0071BED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27EC-3A11-405C-8140-ED5B194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D64-90E2-46E0-8A13-C03D9E0C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140-FB2E-4014-A2EC-27922587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B27-AE4F-43C6-89FA-A82F531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116-1D35-470D-A188-45E99CD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26A-6A04-4D03-9506-F7CD62F1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DB0-E7B6-456E-B342-7F5C3B29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04B-6BB3-4FCB-A411-C47E114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66D-BB37-43C1-B055-B0A4A6B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3E8-687F-421F-AB38-D94AD3FD4D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777-E369-4B52-BB82-804D055C9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ления топли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количества топлива (бензин, дизельное топливо), необходимого для обеспечения работы машин и механизмов на весь период строитель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счеты производятся на основании данных норм потребления топлива различными машинами за час работы, потребности в основных строительных машинах и механизмах и потребности в транспортных средствах и грузоперевоз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8150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добавить новый проект или открыть существующий. При создании нового проекта вводится его наименование и продолжительность строительст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85800" y="1166760"/>
            <a:ext cx="635652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списка машин и механизмов, потребляющих топлив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для проекта формируется на основе справочника машин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35080" y="1050840"/>
            <a:ext cx="6978600" cy="51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машин и механизм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4919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программном модуле имеется возможность изменения пользователем справочника машин и механизмов. При добавлении новой машины или механизма необходимо ввести наименование и нормативное количество потребления топлив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27240" y="1249200"/>
            <a:ext cx="7172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количества топлива, необходимого для обеспечения работы машин и механизм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147680" y="1774800"/>
            <a:ext cx="7534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07:10:18Z</dcterms:modified>
  <cp:revision>200</cp:revision>
  <dc:subject/>
  <dc:title>Слайд 1</dc:title>
</cp:coreProperties>
</file>