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A12-F124-4C08-A159-5C878010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00C-062D-4FDB-8C99-04E1AB4B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2F0-D4B3-4E0F-B682-317EB8EF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6A5-CA69-4015-AB21-8A3B897B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CBC3-E1A5-49D3-85FE-1B7BCF68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8CFE-D6D0-49CE-BC3A-A061F630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2BA2-D4DA-408B-9639-5BB5DE39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355A-6C2F-4E96-A857-5E6E12E1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48AA-E9DA-4065-AEA6-DC3CA6C4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3634-8D04-4B76-AF8C-2241F5FA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F2EC-052F-4598-9B9F-B24AACC2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768-1354-4EF8-98DB-9C3F54BD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EDC6-C2EC-466E-8195-2FA5BCEB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B061-6C4B-4D3A-934D-BDA73EDD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B68A-DE2F-4DD5-8B7E-07C31994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FA5D-556C-4716-837F-649997A7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DA41-8C5C-431F-80C1-36F4B1B7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D96-F793-4E45-8523-DC3E4766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483-D488-415C-BE40-F56C4BC9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708-EFBC-4037-A95F-19FCF523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C51-7AD0-4FE0-A471-BB455C0F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0CD-9115-4B5F-BFA7-373F0F4B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0C0-EFFC-4BE5-8AA2-5541F0EC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4F2-A182-499C-ADE3-8ED020A6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F017-8CA0-4EA9-A7B8-5640AF7B35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3B35-9263-42E3-8CE7-8039CEC4BC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дбор консольных креплени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дбора консольных креплений для траншей из двутавровых балок и стальных труб с учетом требуемой глубины траншеи и характеристик грунт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15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52400" y="559584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проведения подбора необходимо указать глубину траншеи и физико-механические характеристики  грунта. Подбор осуществляется по расчетным таблицам "Альбома технологических карт на разработку траншей в креплениях для подземных коммуникаций. Часть 3. Расчетные таблицы для подбора элементов консольных креплений" (Трест Мосоргинжстрой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455840" y="750960"/>
            <a:ext cx="639900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подбора консольных крепл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1338120" y="1530360"/>
            <a:ext cx="6873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6:51Z</dcterms:modified>
  <cp:revision>301</cp:revision>
  <dc:subject/>
  <dc:title>Слайд 1</dc:title>
</cp:coreProperties>
</file>