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293-2710-4F15-BAD9-E32C2695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AE9-FFA6-4168-B15D-66AB43DF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362-64C0-4021-BA21-F60C0729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A53-82ED-4213-B4AF-4B903404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F990-F3C6-4A6D-9F1D-DD8F18BC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70D5-54A1-4D0D-B39F-E601799B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ECAA-F80A-4B89-82AE-970F35F1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8A14-2218-4911-915B-CB35228D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C3CF-FA59-44F6-A2EC-B7E07FEC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B99B-8F9E-42F9-922F-C8869B4E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DE4C-D983-4C22-9067-0000E3F6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7D1-BD63-41E2-B5C2-01AA5388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D15E-BF43-49CC-A6E3-1A462BAE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BFE9-73F5-4D42-86A7-EA58AEAC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1170-6774-4B4C-AD70-95EE85F2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EB64-61A4-4CDA-8778-C70FC0AF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76AB-4D54-48AD-B015-9C698DAF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059-33ED-4A22-A91D-ED2CF5BE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ADF-9733-4041-A2CE-D41BEB35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6E4-0ED7-48B1-B466-B7AA234F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F17-DF7F-4BB0-B60C-790749CF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314-BDA4-4DEC-A92F-72D11C11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6BF-E224-41B6-820C-AC8FC379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12B-451A-44DC-9AFE-665536BD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23AB-549F-4FFE-95E8-9844D05600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297A-072D-45E5-AB41-53AF2A65A1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394164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потребности в  топлив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52520"/>
            <a:ext cx="81216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чета количества топлива, необходимого для обеспечения работы машин и механизмов на весь период строитель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четы производятся на основании данных норм потребления топлива различными машин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01720" y="518796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ввести потребителей топлива и ГСМ и задать их количество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Учет дорожно-транспортных, климатических и других эксплуатационных факторов производится с помощь соответствующих поправок. При необходимости можно также задать нормы расхода смазочных материалов на 100 л общего расхода топлива. По каждому потребителю требуется указать нормы расхода топлива по видам рабо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38440" y="868320"/>
            <a:ext cx="607680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270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потребителя топлива и ГС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6259680"/>
            <a:ext cx="812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исок машин и механизмов формируется на основе справочника или вводи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47720" y="1209600"/>
            <a:ext cx="76485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о справочником поправок к нормам расхода топли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16040" y="53388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Учет дорожно-транспортных, климатических и других эксплуатационных факторов, изменяющих норму расхода топлива, производится при помощи поправочных коэффициентов (надбавок), регламентированных в виде процентов повышения или снижения исходного значения нормы.  Доступен ввод поправок вручную или из соответствующего справочн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936720" y="1265400"/>
            <a:ext cx="7648560" cy="38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потребности в топливе и горюче-смазочных материалах на строительной площадк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214720" y="1751040"/>
            <a:ext cx="5659200" cy="475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8-12-21T12:36:37Z</dcterms:modified>
  <cp:revision>201</cp:revision>
  <dc:subject/>
  <dc:title>Слайд 1</dc:title>
</cp:coreProperties>
</file>