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B2B-B940-46A1-A5F7-A12CDBD0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045-5A25-488D-A19A-F081D9F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E02-31BF-4BAA-A668-71FA31AD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E0D-70D8-4321-A794-B29620D2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A410-D5F8-49DE-8790-D8835869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8DE-939A-4041-88F3-BE676676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66CF-C138-42BE-BC85-2239025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B0C3-324C-448A-AD0F-BACF102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F1B7-B1BB-4E22-AB84-C8361CD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4CCD-8E51-4672-B518-B42A0854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1C9-AAD7-4F0D-8217-3BCF3C07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1EF-E8CA-436E-83B3-85433E9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1032-C8FA-436C-A2DF-20886FB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0EFF-813F-4AB1-8EFA-7189EE0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F96-5808-473C-A428-C406397E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E30-E79E-4FA2-BBE0-45C015C7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028A-D9AD-41D9-BFA7-ABA2B5FC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9E9-90E4-4375-B6DE-108B8D9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977-4096-4B1D-BD00-AC0CCED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C7F-5980-449F-85B4-9F87C12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1CE-8F25-47C0-A628-215491F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971-15FA-4F2A-AAC6-5D0FFCA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9FF-9E46-4A5E-93A4-A30A156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D31-F4A6-4D2B-84C2-DA8A321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F75-1A7E-4C4A-92BD-B29D8ED32E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DB2-8340-45DE-9FB4-B5237B22F5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окружающей сред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 в части мероприятий по охране окружающей сред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оприятиям по охране окружающей среды; состав и содержание перечня мероприятий по охране окружающей среды; общие экологические требования к обустройству и содержанию строительных площадок; экологические требования к временным сооружениям; оборудование пунктов мойки колес; экологические требования к внутриплощадочным дорогам; инженерным сетям и складским площадкам; экологические требования к производству земляных работ; требования к процессу перемещения грунта и отходов; требования к уборке мусора при производстве строительно-монтажных работ; требования  при сносе зданий и сооружений и ликвидации коммуникаций; создание и охрана зеленых насаждений и по другим аналогичным тем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нов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42840" y="996840"/>
            <a:ext cx="7356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71936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7160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охране окружающей среды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03440" y="1463760"/>
            <a:ext cx="6265800" cy="26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0:11:19Z</dcterms:modified>
  <cp:revision>245</cp:revision>
  <dc:subject/>
  <dc:title>Слайд 1</dc:title>
</cp:coreProperties>
</file>