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F27-41ED-4835-8C27-A3630130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145-9CF5-40AF-B1A3-1F8F670B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436-36BF-407B-9600-7E7AC280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B00-250C-4889-831E-21192D56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0514-A6F2-4208-A956-B277B409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DC36-87A3-441A-843D-A6571732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9310-ACE7-4155-8E85-BDD884AD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A770-DEBC-42B7-9406-7A83523D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9669-A28F-46DE-9B17-352D8718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18D2-9057-4F27-AAAA-B7400037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2464-D33B-4765-89F7-B1971EC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BA9-706C-4E56-930C-430549C7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5F6E-5356-4615-8162-8CEFA1D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0326-F0ED-463C-AF9E-BC7B870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0B08-0F6D-4E1A-A184-B9D4C631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562B-46F3-42CA-9A26-03EF8E7B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2A8A-1564-4F20-A201-AF6B20AD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AED-21D9-42B3-ABD8-0ADBC5E2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AEC-0B7F-4058-BF02-1AFAF65B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7E4-6F04-4378-A633-AA443357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9CB-A042-4222-AE8E-504B7955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25D-653A-4394-9D68-37262F0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F07-9A82-4BCC-96AF-E506463B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360-97D1-4E75-9938-24723CE2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1D85-7C80-4D6A-87D1-E916EAAEAF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3EAD-0D0F-4E6F-868F-B7F4E12507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люлек строительных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люлек строительных (фасадных подъемников) по требуемой грузоподъемности, высоте подъема и типу люльки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консолей по величине требуемого вылет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ых люлек строительных в разрезе и фасад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11360" y="5432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дбор люлек строительных по грузоподъемности, высоте подъема и типу, подбор консолей по величине выл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92400" y="1039680"/>
            <a:ext cx="5257800" cy="42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541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строительной люльк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857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изображения выбранной люльки и консоли на чертеже в разрезе и фасаде с указанием масштаба постро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801880" y="1289160"/>
            <a:ext cx="406260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строительной люльки на чертеже в разрезе и фасад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355760" y="1341360"/>
            <a:ext cx="6827760" cy="51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19:39Z</dcterms:modified>
  <cp:revision>236</cp:revision>
  <dc:subject/>
  <dc:title>Слайд 1</dc:title>
</cp:coreProperties>
</file>