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239-9912-408E-8B07-E199C50B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126-4B2B-4006-9875-8B77B84A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556-048C-4D67-B24D-DD34E03B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FDD-58AA-43DD-A36B-D2A20C5A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D1A-C321-4B1A-9C54-4FB051BB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57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AE9-BADD-4E76-87D5-36148B4D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145-8AF6-47CE-AE53-E45C688B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C5E-1B14-4AC1-89F7-571058FF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A76-4AC5-41E0-8B48-9DA16507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CCB-25CD-4D64-BE77-7E75527B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412-2B02-4DD8-B715-363D3ADC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692-6A49-4BFB-B854-99960D0D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57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39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1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1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5648-0E6E-4D39-A11D-97BC820B09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file:///&#1042;&#1088;&#1077;&#1084;&#1077;&#1085;&#1085;&#1086;&#1077;%20&#1074;&#1086;&#1076;&#1086;&#1089;&#1085;&#1072;&#1073;&#1078;&#1077;&#1085;&#1080;&#1077;.ppt" TargetMode="External"/><Relationship Id="rId6" Type="http://schemas.openxmlformats.org/officeDocument/2006/relationships/hyperlink" Target="file:///&#1042;&#1088;&#1077;&#1084;&#1077;&#1085;&#1085;&#1086;&#1077;%20&#1086;&#1089;&#1074;&#1077;&#1097;&#1077;&#1085;&#1080;&#1077;.ppt" TargetMode="External"/><Relationship Id="rId7" Type="http://schemas.openxmlformats.org/officeDocument/2006/relationships/hyperlink" Target="file:///&#1042;&#1088;&#1077;&#1084;&#1077;&#1085;&#1085;&#1086;&#1077;%20&#1101;&#1083;&#1077;&#1082;&#1090;&#1088;&#1086;&#1089;&#1085;&#1072;&#1073;&#1078;&#1077;&#1085;&#1080;&#1077;.ppt" TargetMode="External"/><Relationship Id="rId8" Type="http://schemas.openxmlformats.org/officeDocument/2006/relationships/hyperlink" Target="file:///&#1042;&#1088;&#1077;&#1084;&#1077;&#1085;&#1085;&#1099;&#1077;%20&#1076;&#1086;&#1088;&#1086;&#1075;&#1080;.ppt" TargetMode="External"/><Relationship Id="rId9" Type="http://schemas.openxmlformats.org/officeDocument/2006/relationships/hyperlink" Target="file:///&#1042;&#1088;&#1077;&#1084;&#1077;&#1085;&#1085;&#1099;&#1077;%20&#1086;&#1075;&#1088;&#1072;&#1078;&#1076;&#1077;&#1085;&#1080;&#1103;.ppt" TargetMode="External"/><Relationship Id="rId10" Type="http://schemas.openxmlformats.org/officeDocument/2006/relationships/hyperlink" Target="file:///&#1043;&#1077;&#1086;&#1076;&#1077;&#1079;&#1080;&#1095;&#1077;&#1089;&#1082;&#1080;&#1081;%20&#1080;%20&#1083;&#1072;&#1073;&#1086;&#1088;&#1072;&#1090;&#1086;&#1088;&#1085;&#1099;&#1081;%20&#1082;&#1086;&#1085;&#1090;&#1088;&#1086;&#1083;&#1100;.ppt" TargetMode="External"/><Relationship Id="rId11" Type="http://schemas.openxmlformats.org/officeDocument/2006/relationships/hyperlink" Target="file:///&#1042;&#1099;&#1073;&#1086;&#1088;%20&#1082;&#1088;&#1072;&#1085;&#1086;&#1074;.ppt" TargetMode="External"/><Relationship Id="rId12" Type="http://schemas.openxmlformats.org/officeDocument/2006/relationships/hyperlink" Target="file:///&#1042;&#1099;&#1073;&#1086;&#1088;%20&#1082;&#1088;&#1072;&#1085;&#1086;&#1074;-&#1090;&#1088;&#1091;&#1073;&#1086;&#1091;&#1082;&#1083;&#1072;&#1076;&#1095;&#1080;&#1082;&#1086;&#1074;.ppt" TargetMode="External"/><Relationship Id="rId13" Type="http://schemas.openxmlformats.org/officeDocument/2006/relationships/hyperlink" Target="file:///&#1042;&#1099;&#1073;&#1086;&#1088;%20&#1083;&#1102;&#1083;&#1077;&#1082;%20&#1089;&#1090;&#1088;&#1086;&#1080;&#1090;&#1077;&#1083;&#1100;&#1085;&#1099;&#1093;.ppt" TargetMode="External"/><Relationship Id="rId14" Type="http://schemas.openxmlformats.org/officeDocument/2006/relationships/hyperlink" Target="file:///&#1042;&#1099;&#1073;&#1086;&#1088;%20&#1084;&#1072;&#1095;&#1090;&#1086;&#1074;&#1099;&#1093;%20&#1087;&#1086;&#1076;&#1098;&#1077;&#1084;&#1085;&#1080;&#1082;&#1086;&#1074;.ppt" TargetMode="External"/><Relationship Id="rId15" Type="http://schemas.openxmlformats.org/officeDocument/2006/relationships/hyperlink" Target="file:///&#1055;&#1086;&#1076;&#1082;&#1088;&#1072;&#1085;&#1086;&#1074;&#1099;&#1077;%20&#1087;&#1091;&#1090;&#1080;.ppt" TargetMode="External"/><Relationship Id="rId16" Type="http://schemas.openxmlformats.org/officeDocument/2006/relationships/hyperlink" Target="file:///&#1056;&#1072;&#1089;&#1095;&#1077;&#1090;%20&#1092;&#1091;&#1085;&#1076;&#1072;&#1084;&#1077;&#1085;&#1090;&#1085;&#1086;&#1081;%20&#1087;&#1083;&#1080;&#1090;&#1099;%20&#1087;&#1086;&#1076;%20&#1082;&#1088;&#1072;&#1085;.ppt" TargetMode="External"/><Relationship Id="rId17" Type="http://schemas.openxmlformats.org/officeDocument/2006/relationships/hyperlink" Target="file:///&#1057;&#1093;&#1077;&#1084;&#1099;%20&#1089;&#1090;&#1088;&#1086;&#1087;&#1086;&#1074;&#1082;&#1080;%20&#1075;&#1088;&#1091;&#1079;&#1086;&#1074;.ppt" TargetMode="External"/><Relationship Id="rId18" Type="http://schemas.openxmlformats.org/officeDocument/2006/relationships/hyperlink" Target="file:///&#1056;&#1072;&#1079;&#1088;&#1072;&#1073;&#1086;&#1090;&#1082;&#1072;%20&#1082;&#1086;&#1090;&#1083;&#1086;&#1074;&#1072;&#1085;&#1086;&#1074;.ppt" TargetMode="External"/><Relationship Id="rId19" Type="http://schemas.openxmlformats.org/officeDocument/2006/relationships/hyperlink" Target="file:///&#1056;&#1072;&#1079;&#1088;&#1072;&#1073;&#1086;&#1090;&#1082;&#1072;%20&#1090;&#1088;&#1072;&#1085;&#1096;&#1077;&#1081;.ppt" TargetMode="External"/><Relationship Id="rId20" Type="http://schemas.openxmlformats.org/officeDocument/2006/relationships/hyperlink" Target="file:///&#1055;&#1086;&#1076;&#1073;&#1086;&#1088;%20&#1079;&#1077;&#1084;&#1083;&#1077;&#1088;&#1086;&#1081;&#1085;&#1086;&#1081;%20&#1090;&#1077;&#1093;&#1085;&#1080;&#1082;&#1080;.ppt" TargetMode="External"/><Relationship Id="rId21" Type="http://schemas.openxmlformats.org/officeDocument/2006/relationships/hyperlink" Target="file:///&#1055;&#1086;&#1076;&#1073;&#1086;&#1088;%20&#1082;&#1086;&#1085;&#1089;&#1086;&#1083;&#1100;&#1085;&#1099;&#1093;%20&#1082;&#1088;&#1077;&#1087;&#1083;&#1077;&#1085;&#1080;&#1081;.ppt" TargetMode="External"/><Relationship Id="rId22" Type="http://schemas.openxmlformats.org/officeDocument/2006/relationships/hyperlink" Target="file:///&#1055;&#1086;&#1089;&#1090;&#1088;&#1086;&#1077;&#1085;&#1080;&#1077;%20&#1089;&#1077;&#1090;&#1082;&#1080;%20&#1086;&#1089;&#1077;&#1081;.ppt" TargetMode="External"/><Relationship Id="rId23" Type="http://schemas.openxmlformats.org/officeDocument/2006/relationships/hyperlink" Target="file:///&#1056;&#1072;&#1089;&#1095;&#1077;&#1090;%20&#1074;&#1086;&#1076;&#1086;&#1087;&#1086;&#1085;&#1080;&#1078;&#1077;&#1085;&#1080;&#1103;.ppt" TargetMode="External"/><Relationship Id="rId24" Type="http://schemas.openxmlformats.org/officeDocument/2006/relationships/hyperlink" Target="file:///&#1050;&#1072;&#1083;&#1077;&#1085;&#1076;&#1072;&#1088;&#1085;&#1099;&#1081;%20&#1087;&#1083;&#1072;&#1085;%20&#1055;&#1054;&#1057;.ppt" TargetMode="External"/><Relationship Id="rId25" Type="http://schemas.openxmlformats.org/officeDocument/2006/relationships/hyperlink" Target="file:///&#1050;&#1072;&#1083;&#1077;&#1085;&#1076;&#1072;&#1088;&#1085;&#1099;&#1081;%20&#1087;&#1083;&#1072;&#1085;%20&#1055;&#1055;&#1056;.ppt" TargetMode="External"/><Relationship Id="rId26" Type="http://schemas.openxmlformats.org/officeDocument/2006/relationships/hyperlink" Target="file:///&#1050;&#1086;&#1085;&#1090;&#1088;&#1086;&#1083;&#1100;%20&#1082;&#1072;&#1095;&#1077;&#1089;&#1090;&#1074;&#1072;.ppt" TargetMode="External"/><Relationship Id="rId27" Type="http://schemas.openxmlformats.org/officeDocument/2006/relationships/hyperlink" Target="file:///&#1052;&#1086;&#1085;&#1080;&#1090;&#1086;&#1088;&#1080;&#1085;&#1075;%20&#1079;&#1076;&#1072;&#1085;&#1080;&#1081;%20&#1074;&#1073;&#1083;&#1080;&#1079;&#1080;%20&#1089;&#1090;&#1088;&#1086;&#1081;&#1087;&#1083;&#1086;&#1097;&#1072;&#1076;&#1082;&#1080;.ppt" TargetMode="External"/><Relationship Id="rId28" Type="http://schemas.openxmlformats.org/officeDocument/2006/relationships/hyperlink" Target="file:///&#1054;&#1093;&#1088;&#1072;&#1085;&#1072;%20&#1086;&#1082;&#1088;&#1091;&#1078;&#1072;&#1102;&#1097;&#1077;&#1081;%20&#1089;&#1088;&#1077;&#1076;&#1099;.ppt" TargetMode="External"/><Relationship Id="rId29" Type="http://schemas.openxmlformats.org/officeDocument/2006/relationships/hyperlink" Target="file:///&#1054;&#1093;&#1088;&#1072;&#1085;&#1072;%20&#1089;&#1090;&#1088;&#1086;&#1080;&#1090;&#1077;&#1083;&#1100;&#1085;&#1086;&#1081;%20&#1087;&#1083;&#1086;&#1097;&#1072;&#1076;&#1082;&#1080;.ppt" TargetMode="External"/><Relationship Id="rId30" Type="http://schemas.openxmlformats.org/officeDocument/2006/relationships/hyperlink" Target="file:///&#1055;&#1086;&#1078;&#1072;&#1088;&#1085;&#1072;&#1103;%20&#1073;&#1077;&#1079;&#1086;&#1087;&#1072;&#1089;&#1085;&#1086;&#1089;&#1090;&#1100;.ppt" TargetMode="External"/><Relationship Id="rId31" Type="http://schemas.openxmlformats.org/officeDocument/2006/relationships/hyperlink" Target="file:///&#1056;&#1072;&#1079;&#1084;&#1077;&#1097;&#1077;&#1085;&#1080;&#1077;%20&#1074;&#1088;&#1077;&#1084;&#1077;&#1085;&#1085;&#1099;&#1093;%20&#1079;&#1076;&#1072;&#1085;&#1080;&#1081;.ppt" TargetMode="External"/><Relationship Id="rId32" Type="http://schemas.openxmlformats.org/officeDocument/2006/relationships/hyperlink" Target="file:///&#1056;&#1072;&#1079;&#1084;&#1077;&#1097;&#1077;&#1085;&#1080;&#1077;%20&#1089;&#1082;&#1083;&#1072;&#1076;&#1089;&#1082;&#1080;&#1093;%20&#1087;&#1083;&#1086;&#1097;&#1072;&#1076;&#1086;&#1082;.ppt" TargetMode="External"/><Relationship Id="rId33" Type="http://schemas.openxmlformats.org/officeDocument/2006/relationships/hyperlink" Target="file:///&#1056;&#1072;&#1089;&#1095;&#1077;&#1090;%20&#1087;&#1086;&#1090;&#1088;&#1077;&#1073;&#1085;&#1086;&#1089;&#1090;&#1080;%20&#1074;&#1086;%20&#1074;&#1088;&#1077;&#1084;&#1077;&#1085;&#1085;&#1099;&#1093;%20&#1079;&#1076;&#1072;&#1085;&#1080;&#1103;&#1093;.ppt" TargetMode="External"/><Relationship Id="rId34" Type="http://schemas.openxmlformats.org/officeDocument/2006/relationships/hyperlink" Target="file:///&#1057;&#1082;&#1083;&#1072;&#1076;&#1089;&#1082;&#1080;&#1077;%20&#1087;&#1083;&#1086;&#1097;&#1072;&#1076;&#1082;&#1080;.ppt" TargetMode="External"/><Relationship Id="rId35" Type="http://schemas.openxmlformats.org/officeDocument/2006/relationships/hyperlink" Target="file:///&#1057;&#1090;&#1077;&#1089;&#1085;&#1077;&#1085;&#1085;&#1099;&#1077;%20&#1091;&#1089;&#1083;&#1086;&#1074;&#1080;&#1103;.ppt" TargetMode="External"/><Relationship Id="rId36" Type="http://schemas.openxmlformats.org/officeDocument/2006/relationships/hyperlink" Target="file:///&#1057;&#1093;&#1077;&#1084;&#1099;%20&#1089;&#1082;&#1083;&#1072;&#1076;&#1080;&#1088;&#1086;&#1074;&#1072;&#1085;&#1080;&#1103;.ppt" TargetMode="External"/><Relationship Id="rId37" Type="http://schemas.openxmlformats.org/officeDocument/2006/relationships/hyperlink" Target="file:///&#1058;&#1077;&#1082;&#1089;&#1090;&#1086;&#1074;&#1072;&#1103;%20&#1095;&#1072;&#1089;&#1090;&#1100;%20&#1055;&#1054;&#1057;.ppt" TargetMode="External"/><Relationship Id="rId38" Type="http://schemas.openxmlformats.org/officeDocument/2006/relationships/hyperlink" Target="file:///&#1058;&#1077;&#1093;&#1085;&#1080;&#1082;&#1072;%20&#1073;&#1077;&#1079;&#1086;&#1087;&#1072;&#1089;&#1085;&#1086;&#1089;&#1090;&#1080;.ppt" TargetMode="External"/><Relationship Id="rId39" Type="http://schemas.openxmlformats.org/officeDocument/2006/relationships/hyperlink" Target="file:///&#1059;&#1089;&#1083;&#1086;&#1074;&#1080;&#1103;%20&#1076;&#1077;&#1081;&#1089;&#1090;&#1074;&#1091;&#1102;&#1097;&#1077;&#1075;&#1086;%20&#1087;&#1088;&#1077;&#1076;&#1087;&#1088;&#1080;&#1103;&#1090;&#1080;&#1103;.ppt" TargetMode="External"/><Relationship Id="rId40" Type="http://schemas.openxmlformats.org/officeDocument/2006/relationships/hyperlink" Target="file:///&#1059;&#1089;&#1083;&#1086;&#1074;&#1085;&#1099;&#1077;%20&#1086;&#1073;&#1086;&#1079;&#1085;&#1072;&#1095;&#1077;&#1085;&#1080;&#1103;.ppt" TargetMode="External"/><Relationship Id="rId41" Type="http://schemas.openxmlformats.org/officeDocument/2006/relationships/hyperlink" Target="file:///&#1069;&#1083;&#1077;&#1082;&#1090;&#1088;&#1086;&#1087;&#1088;&#1086;&#1075;&#1088;&#1077;&#1074;%20&#1073;&#1077;&#1090;&#1086;&#1085;&#1072;.ppt" TargetMode="External"/><Relationship Id="rId42" Type="http://schemas.openxmlformats.org/officeDocument/2006/relationships/hyperlink" Target="file:///&#1069;&#1083;&#1077;&#1082;&#1090;&#1088;&#1086;&#1087;&#1088;&#1086;&#1075;&#1088;&#1077;&#1074;%20&#1073;&#1077;&#1090;&#1086;&#1085;&#1072;.ppt" TargetMode="External"/><Relationship Id="rId43" Type="http://schemas.openxmlformats.org/officeDocument/2006/relationships/hyperlink" Target="file:///&#1054;&#1073;&#1097;&#1080;&#1077;%20&#1089;&#1074;&#1077;&#1076;&#1077;&#1085;&#1080;&#1103;%20&#1086;%20&#1087;&#1088;&#1086;&#1075;&#1088;&#1072;&#1084;&#1084;&#1085;&#1086;&#1084;%20&#1082;&#1086;&#1084;&#1087;&#1083;&#1077;&#1082;&#1089;&#1077;.ppt" TargetMode="External"/><Relationship Id="rId44" Type="http://schemas.openxmlformats.org/officeDocument/2006/relationships/hyperlink" Target="file:///&#1054;&#1073;&#1097;&#1080;&#1077;%20&#1089;&#1074;&#1077;&#1076;&#1077;&#1085;&#1080;&#1103;%20&#1086;%20&#1087;&#1088;&#1086;&#1075;&#1088;&#1072;&#1084;&#1084;&#1085;&#1086;&#1084;%20&#1082;&#1086;&#1084;&#1087;&#1083;&#1077;&#1082;&#1089;&#1077;.ppt" TargetMode="External"/><Relationship Id="rId45" Type="http://schemas.openxmlformats.org/officeDocument/2006/relationships/hyperlink" Target="file:///&#1054;&#1089;&#1085;&#1086;&#1074;&#1085;&#1099;&#1077;%20&#1074;&#1086;&#1079;&#1084;&#1086;&#1078;&#1085;&#1086;&#1089;&#1090;&#1080;%20&#1087;&#1088;&#1086;&#1075;&#1088;&#1072;&#1084;&#1084;&#1085;&#1086;&#1075;&#1086;%20&#1082;&#1086;&#1084;&#1087;&#1083;&#1077;&#1082;&#1089;&#1072;.ppt" TargetMode="External"/><Relationship Id="rId46" Type="http://schemas.openxmlformats.org/officeDocument/2006/relationships/hyperlink" Target="file:///&#1054;&#1089;&#1085;&#1086;&#1074;&#1085;&#1099;&#1077;%20&#1074;&#1086;&#1079;&#1084;&#1086;&#1078;&#1085;&#1086;&#1089;&#1090;&#1080;%20&#1087;&#1088;&#1086;&#1075;&#1088;&#1072;&#1084;&#1084;&#1085;&#1086;&#1075;&#1086;%20&#1082;&#1086;&#1084;&#1087;&#1083;&#1077;&#1082;&#1089;&#1072;.ppt" TargetMode="External"/><Relationship Id="rId4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50920" y="261000"/>
            <a:ext cx="5112000" cy="1617840"/>
          </a:xfrm>
          <a:prstGeom prst="rect">
            <a:avLst/>
          </a:prstGeom>
          <a:gradFill rotWithShape="0">
            <a:gsLst>
              <a:gs pos="0">
                <a:srgbClr val="174675">
                  <a:alpha val="50196"/>
                </a:srgbClr>
              </a:gs>
              <a:gs pos="100000">
                <a:srgbClr val="3399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ЕЗЕНТАЦИЯ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ограммного комплекс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69200" y="2444760"/>
            <a:ext cx="1602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Программные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модул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2160" y="2585520"/>
            <a:ext cx="7704000" cy="4224240"/>
            <a:chOff x="722160" y="2585520"/>
            <a:chExt cx="7704000" cy="4224240"/>
          </a:xfrm>
        </p:grpSpPr>
        <p:sp>
          <p:nvSpPr>
            <p:cNvPr id="107" name=""/>
            <p:cNvSpPr/>
            <p:nvPr/>
          </p:nvSpPr>
          <p:spPr>
            <a:xfrm flipV="1">
              <a:off x="8402400" y="2585520"/>
              <a:ext cx="0" cy="4202280"/>
            </a:xfrm>
            <a:prstGeom prst="line">
              <a:avLst/>
            </a:prstGeom>
            <a:ln w="1908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722160" y="2585880"/>
              <a:ext cx="7704000" cy="4223880"/>
              <a:chOff x="722160" y="2585880"/>
              <a:chExt cx="7704000" cy="422388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722160" y="2585880"/>
                <a:ext cx="2928960" cy="3096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2160" y="2609280"/>
                <a:ext cx="42120" cy="420048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754560" y="6777360"/>
                <a:ext cx="7671600" cy="2952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87480" y="2585880"/>
                <a:ext cx="292752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0080" y="115920"/>
            <a:ext cx="1592280" cy="762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172360" y="150840"/>
            <a:ext cx="773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36560" y="2598480"/>
            <a:ext cx="7646760" cy="4192560"/>
            <a:chOff x="736560" y="2598480"/>
            <a:chExt cx="7646760" cy="4192560"/>
          </a:xfrm>
        </p:grpSpPr>
        <p:sp>
          <p:nvSpPr>
            <p:cNvPr id="116" name=""/>
            <p:cNvSpPr/>
            <p:nvPr/>
          </p:nvSpPr>
          <p:spPr>
            <a:xfrm flipV="1">
              <a:off x="739080" y="2598840"/>
              <a:ext cx="2909520" cy="3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560" y="2626200"/>
              <a:ext cx="42120" cy="416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68960" y="6765120"/>
              <a:ext cx="7611480" cy="2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8377560" y="2598480"/>
              <a:ext cx="5760" cy="416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67680" y="2598840"/>
              <a:ext cx="290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12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3" name="" descr="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826920" y="2708280"/>
            <a:ext cx="3673800" cy="3960720"/>
          </a:xfrm>
          <a:prstGeom prst="rect">
            <a:avLst/>
          </a:prstGeom>
          <a:solidFill>
            <a:srgbClr val="0066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5"/>
              </a:rPr>
              <a:t>Временное водоснабже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6"/>
              </a:rPr>
              <a:t>Временное освеще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7"/>
              </a:rPr>
              <a:t>Временное электроснабже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8"/>
              </a:rPr>
              <a:t>Временные дорог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9"/>
              </a:rPr>
              <a:t>Временные огражден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0"/>
              </a:rPr>
              <a:t>Геодезический и лабораторный контроль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Times New Roman"/>
              </a:rPr>
              <a:t>Грузоподъемные механизмы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1"/>
              </a:rPr>
              <a:t>Выбор кран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2"/>
              </a:rPr>
              <a:t>Выбор кранов-трубоукладчик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3"/>
              </a:rPr>
              <a:t>Выбор люлек строительны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4"/>
              </a:rPr>
              <a:t>Выбор мачтовых подъемник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5"/>
              </a:rPr>
              <a:t>Подкрановые пут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6"/>
              </a:rPr>
              <a:t>Расчет фундаментной плиты под кран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7"/>
              </a:rPr>
              <a:t>Схемы строповки груз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Times New Roman"/>
              </a:rPr>
              <a:t>Земляные работы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8"/>
              </a:rPr>
              <a:t>Разработка котлован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9"/>
              </a:rPr>
              <a:t>Разработка траншей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0"/>
              </a:rPr>
              <a:t>Подбор землеройной техник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1"/>
              </a:rPr>
              <a:t>Подбор консольных креплений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2"/>
              </a:rPr>
              <a:t>Построение сетки осей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3"/>
              </a:rPr>
              <a:t>Расчет водопонижен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4"/>
              </a:rPr>
              <a:t>Календарный план ПОС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5"/>
              </a:rPr>
              <a:t>Календарный план ППР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29240" y="2708280"/>
            <a:ext cx="3673440" cy="3960720"/>
          </a:xfrm>
          <a:prstGeom prst="rect">
            <a:avLst/>
          </a:prstGeom>
          <a:solidFill>
            <a:srgbClr val="0066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6"/>
              </a:rPr>
              <a:t>Контроль качеств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7"/>
              </a:rPr>
              <a:t>Мониторинг зданий вблизи стройплощадк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8"/>
              </a:rPr>
              <a:t>Охрана окружающей среды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9"/>
              </a:rPr>
              <a:t>Охрана строительной площадк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0"/>
              </a:rPr>
              <a:t>Пожарная безопасность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ПОР по сносу (демонтажу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1"/>
              </a:rPr>
              <a:t>Размещение временных зданий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2"/>
              </a:rPr>
              <a:t>Размещение складских площадок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Расчет потребности в топлив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3"/>
              </a:rPr>
              <a:t>Расчет потребности во временных здания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4"/>
              </a:rPr>
              <a:t>Складские площадк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5"/>
              </a:rPr>
              <a:t>Стесненные услов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6"/>
              </a:rPr>
              <a:t>Схемы складирован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7"/>
              </a:rPr>
              <a:t>Текстовая часть ПОС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Текстовая часть ПОС линейных объект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8"/>
              </a:rPr>
              <a:t>Техника безопасност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9"/>
              </a:rPr>
              <a:t>Условия действующего предприят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0"/>
              </a:rPr>
              <a:t>Условные обозначен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1"/>
              </a:rPr>
              <a:t>Электропрогрев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2"/>
              </a:rPr>
              <a:t> бетон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1989000"/>
            <a:ext cx="3673800" cy="432000"/>
          </a:xfrm>
          <a:prstGeom prst="rect">
            <a:avLst/>
          </a:prstGeom>
          <a:solidFill>
            <a:srgbClr val="0066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3"/>
              </a:rPr>
              <a:t>Общие сведения о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4"/>
              </a:rPr>
              <a:t>программном комплекс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1989000"/>
            <a:ext cx="3675240" cy="432000"/>
          </a:xfrm>
          <a:prstGeom prst="rect">
            <a:avLst/>
          </a:prstGeom>
          <a:solidFill>
            <a:srgbClr val="0066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5"/>
              </a:rPr>
              <a:t>Основные возможност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6"/>
              </a:rPr>
              <a:t>программного комплекс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540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3:55:35Z</dcterms:created>
  <dc:creator/>
  <dc:description/>
  <dc:language>en-US</dc:language>
  <cp:lastModifiedBy>-</cp:lastModifiedBy>
  <dcterms:modified xsi:type="dcterms:W3CDTF">2018-12-21T12:14:51Z</dcterms:modified>
  <cp:revision>380</cp:revision>
  <dc:subject/>
  <dc:title>Слайд 1</dc:title>
</cp:coreProperties>
</file>