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D1B-1C23-4A89-861B-F4D0DBD7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F5E-84AB-4927-98EC-1C9CEAE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ACB-C39C-4BFF-9549-E134C4DB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7B2-D125-4FF4-B1FF-2B5F016C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1F69-C540-4575-BCE0-B0812D7D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6BD5-7A31-4B8B-AF43-21E30051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8F6-E58E-47B0-AEB1-538CCA78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7DD9-B48A-4E28-A921-C12E6B67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EACB-C145-4B4D-ADE8-E8B64097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C5A0-0575-44B6-AC69-C6564AB9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57B2-97DA-44AF-9ADE-57B3AC5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306-B58C-4339-8299-DBB885EF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67FC-063C-4730-BF8C-2002C1F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F96-AEE9-4124-AF79-9C62A25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8AA9-F67C-4E6E-8E77-90FD93C2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C3DB-EB70-434A-B8CE-6A8544B7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ABF8-F9B7-4988-8085-A585CBD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7FD-0DF5-4D0B-A284-7E4F0523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3CC-DBEB-4F9F-A27A-799A5F27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1AF-0F3B-4E05-BEE1-9C61A251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6D0-6032-4FFE-AE4B-843F16D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E72-0C1E-4950-A5C8-7F5FC333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A71-1C2D-468A-9C49-1B51047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C18-5A64-47D1-8797-98FB58C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FE6C-BB30-43CE-A515-8CA320E8FC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C255-FBAF-4F12-ACBE-CE74D31402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Р по сносу (демонтажу)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проекта организации работ (ПОР) по сносу или демонтажу объектов капитального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азработка проекта по демонтажу или сносу осуществляется с целью безопасного и в заданные сроки производства работ по сносу или демонтажу зданий, охраны окружающей среды и утилизации отходов при организации сноса зданий и сооруж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труктура приведенных в программном модуле задач соответствует требованиям Постановления Правительства РФ от 16.02.2008 № 8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ы, приведенные в программном модуле, содержат положения, указания и описания мероприятий, необходимых для производства работ по демонтажу (сносу) зданий и сооруж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 Модуль предназначен для эксплуатации в проектных и строительно-монтажных организациях, разрабатывающих проекты организации работ, а также для организаций, выполняющих работы по демонтажу (сносу) здания и сооруж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, реконструкции и сносе объектов капитального строительств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32040" y="1168560"/>
            <a:ext cx="7343640" cy="39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01800" y="1641600"/>
            <a:ext cx="748980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15960" y="5622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39880" y="1327320"/>
            <a:ext cx="7539120" cy="38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техники безопасности и охраны труд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4760" y="1379520"/>
            <a:ext cx="6251400" cy="26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10-13T10:12:39Z</dcterms:modified>
  <cp:revision>254</cp:revision>
  <dc:subject/>
  <dc:title>Слайд 1</dc:title>
</cp:coreProperties>
</file>