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3D0-3E26-4897-A001-D7437F2C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8B8-B436-4BA6-9980-AAF87772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7CE-0248-48F2-BED6-C4BB5C79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576-55BC-4FD8-AA0E-C174AD3F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4171-61F0-42C6-A672-1C028A58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71AE-BF14-44DF-AA70-B3CAD23C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F6F5-3C66-4D3F-9ED2-3FC88563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1E94-4D3B-48AD-8B75-CCCEA3D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C6A-3CA8-49E5-803E-868E737C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C245-FD3C-4A7F-9DE9-F6CD0C4C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8A79-5F2B-445E-B8E3-EEC839D0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6E5-9624-4A95-A966-BDEF5BC7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FF16-2503-4B5E-B99F-A3950201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E07E-A58C-4CE0-8C74-F0CB51E7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804D-8F78-4CB1-906E-F140A16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7090-B31C-45EF-857A-723E6F87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B167-C5AE-47EA-91B1-BA13169D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3FC-0A6D-44E7-82CB-AD575865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442-A9CD-4D6D-8450-02C3F4C7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164-0C82-4B5C-BC70-2819A5E3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E21-C7EC-4F9C-A367-6D3F9B86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D9E-4756-4889-B643-40BF41D5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FAB-145A-4CDC-BD9A-C7AD4BC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BDD-8001-4943-8FE0-232FAFD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533-D1A4-4BE8-831E-4D2DE62152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442D-D10F-4A1F-A3E6-DA9E4D62DA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Электропрогрев бетон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3301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напряжения трансформат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040" y="58341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электрических параметров трансформатора и подводящих проводов необходимо выбрать определенный метод прогрева и требуемые для него исходные данны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944640" y="1185840"/>
            <a:ext cx="75754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ов параметров оборудования, используемого при электродном прогреве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1092240" y="1706400"/>
            <a:ext cx="72388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редварительный электроразогрев бетонных смес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76440" y="584028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едварительном электроразогреве бетонных смесей, необходимо ввести или выбрать из соответствующих справочников исходные данные, провести расчет потребной мощности, параметров электрооборудования и бунк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155600" y="928800"/>
            <a:ext cx="701064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563840" y="228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иведенной удельной теплоемкости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1244520" y="1360440"/>
            <a:ext cx="695340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3840" y="11448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орудования бункера для предварительного электроразогрева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525680" y="1838160"/>
            <a:ext cx="66769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ев бетона греющими изолированными провод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76440" y="5904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огреве бетона греющими изолированными проводами, необходимо ввести или выбрать из соответствующих справочников исходные данные и провести расчет электрических параметров прово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434960" y="995400"/>
            <a:ext cx="67914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ъемного прогрева бетона с помощью изолированных греющих прово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463760" y="1724040"/>
            <a:ext cx="66484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87280"/>
            <a:ext cx="8121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араметров оборудования, используемого при прогреве бетона методами электродного прогрева, прогрева греющими изолированными проводами, а также оборудования, применяемого при предварительном электроразогреве бетонных смес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следующие базы данных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удельные электрические сопротивления тяжелых бетонов на портландцементах разных заводов (ориентировочные значения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ориентировочное уменьшение величин удельного электрического сопротивления бетона в зависимости от вида и количества применяемых добавок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наивысшие допустимые температуры бетона при сквозном электропрогреве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графики нарастания прочности бетонов  в зависимости от температуры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коэффициенты теплопередачи различных опалубо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1162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выбрать один из методов электропрогрева бетон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электродный прогрев, предварительный электроразогрев бетонных смесей, прогрев греющими изолированными провод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90640" y="1077840"/>
            <a:ext cx="5329440" cy="28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904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дный прогрев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0310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электродном прогреве бетона, необходимо ввести или выбрать из соответствующих справочников исходные данные, провести расчет требуемой электрической мощности и напряжения трансформ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00240" y="824040"/>
            <a:ext cx="689616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удельного сопротивления бетон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542772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расчетного удельного сопротивления бетона необходимо указать завод-изготовитель цемента, наименование и количество доба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520" y="1076400"/>
            <a:ext cx="8109000" cy="42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модуля поверхности конструкц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07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модуля поверхности конструкции необходимо предварительно просуммировать площади и объемы поверх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1520" y="1030320"/>
            <a:ext cx="64818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652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емпературы изотермического прогрев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136520" y="1289160"/>
            <a:ext cx="718344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396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продолжительности изотермического прогрева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16040" y="62276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должительность изотермического прогрева бетона определяется по графику нарастания прочности бетона для выбранной марки бето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30320" y="1128600"/>
            <a:ext cx="74642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оэффициента теплопередачи опалуб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16040" y="5122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коэффициента теплопередачи опалубки необходимо указать материал опалубки и скорость вет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357200" y="1316160"/>
            <a:ext cx="687384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12:20:26Z</dcterms:modified>
  <cp:revision>266</cp:revision>
  <dc:subject/>
  <dc:title>Слайд 1</dc:title>
</cp:coreProperties>
</file>