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9F8-0B04-4BEC-AD0E-74B21891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65C-3665-40C9-9D62-BC90ECB1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B8C-6290-4328-BF74-7434ECA4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AC5-4A23-4601-A594-08D8FE87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98C7-9788-40E2-84FE-35FE267B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692E-F6E6-409E-839D-CA114F3B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DCE9-CBCA-4C0C-95E0-FCD5C030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471D-1814-4BDC-8C30-D41F055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3A53-E7E5-4EDF-9929-57AD25AE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0E9F-323F-4893-AE95-624886BD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AA90-8976-4B6B-9A89-0C6B51D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451-4010-4540-8D44-13ADB744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5C53-27DA-4134-92FE-7A5F2E5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BD0B-A709-49A7-A21E-93C5926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FDDE-F6DD-40DB-AC42-673C01F8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4E2C-4F6D-4AFB-9EDF-6450CBD9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48A6-E048-4381-BEE4-3EB8F9F9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B33-E311-443D-88FB-82E625DB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DDC-5152-4DBA-97DE-A7497787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B1D-EF9E-4277-A9A5-3E093A4E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3D4-A857-43BF-9B31-54786670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F5B-03F1-4123-A61C-9C8583B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D67-F393-4E29-A530-E8CB7BC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307-8ACD-448F-9ACA-338437D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8177-B0F4-4426-8AD5-AABFC39193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1E27-59AF-43DB-A0F6-D17DC57064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работка транше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Частичное укрепление транше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55520" y="59389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оступно использование разных способов крепления стен траншеи (в т.ч. без укрепления) на различных ее участка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360440" y="1179360"/>
            <a:ext cx="682776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Автоматический подбор консольных крепл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154160" y="5418000"/>
            <a:ext cx="758988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траншей с глубиной до 5,5 метров (кроме слабых грунтов и водонасыщенных песков) существует возможность автоматического подбора консольных крепл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дбор осуществляется по расчетным таблицам "Альбома технологических карт на разработку траншей в креплениях для подземных коммуникаций. Часть 3. Расчетные таблицы для подбора элементов консольных креплений" (Трест Мосоргинжстрой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1555920" y="1393920"/>
            <a:ext cx="668628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полнение раскладки труб и расчет обратной засып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057320" y="5959440"/>
            <a:ext cx="758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76400" y="5931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меется возможность выполнить раскладку труб в траншее и рассчитать объем обратной засыпки. Определение минимальной ширины траншеи и размеров приямков производится по таблицам 6.1 и 6.2 СП 45.13330.201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1590840" y="1165320"/>
            <a:ext cx="64785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текстовых докумен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057320" y="5959440"/>
            <a:ext cx="758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7600" y="62229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меется возможность сформировать различные отчетные документы: раскладка труб, определение угла откоса, подбор креплений и т.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895480" y="822240"/>
            <a:ext cx="3990960" cy="3449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2892600" y="4419720"/>
            <a:ext cx="399384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траншеи на чертеж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057320" y="5959440"/>
            <a:ext cx="758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682560" y="1246320"/>
            <a:ext cx="8134560" cy="49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530360"/>
            <a:ext cx="812160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71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определения объемов земляных работ и построения на чертежах траншей  с различными профилями (с естественными откосами, без откосов, с комбинированным профилем) с учетом заданного рельефа местности, максимально возможной крутизны откосов и выбранных способов крепления стен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71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беспечивается возможность построения траншей в плане и разрезах, выделения различных видов грунтов с формированием геологических разрезов (колонок грунтов), формирования ведомости объемов работ и обоснования выбора способа крепления стен, размещения колодцев, раскладки труб в траншеи и расчета объема обратной засыпк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71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Имеется возможность подобрать землеройную технику для проведения земляных работ для устройства выбранной траншеи с помощью программного модуля «Подбор землеройной техники»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144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49320" y="5958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еспечивается определение объемов земляных работ и построение на чертеже траншей  с различными профилями, способами крепления стен и т.д. Возможно построение изображений траншей в плане и разреза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043000" y="642960"/>
            <a:ext cx="549612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66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транше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55800" y="5008680"/>
            <a:ext cx="758988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ожно указать один или несколько участков, образующих траншею. Участки могут быть разной глубины. При необходимости указывается уклон участ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еологический разрез задает структуру грунтов для всей траншеи. Имеется возможность сформировать рельеф местности с указанием толщин слоев грунтов в каждой точке рель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зависимости от профиля траншеи доступны разные виды укрепления стенок, в том числе разные способы для участк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428840" y="838080"/>
            <a:ext cx="670860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геологического разр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055520" y="60530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построении траншей обязательно определяется базовая структура грунтов, включающая их наименования и толщины слое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752480" y="987480"/>
            <a:ext cx="59533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рельеф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55520" y="60530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ельеф можно задать вручную или применить автоматическую расстановку точек рельефа с заданными параметрам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176560" y="878040"/>
            <a:ext cx="527184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геологического разр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рельеф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055520" y="61801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необходимости пользователь может уточнить структуру грунтов в разных точках траншеи на рельефе. Можно изменить толщину слоев для каждого узла сетки рель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752480" y="1209600"/>
            <a:ext cx="6172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змещение колодце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55520" y="60530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ожно установить размещение колодцев автоматически или указать на чертеже вручную. Для колодцев задаются их форма (круглый или квадратный), размеры и глуб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071800" y="773280"/>
            <a:ext cx="552744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способа укрепления стен транше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055520" y="60278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участков траншеи можно установить независимо различные способы крепления стен, при этом отображаются только способы крепления, подходящие по грунтовым условиям и глубине транше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679400" y="787320"/>
            <a:ext cx="61293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03:14Z</dcterms:modified>
  <cp:revision>338</cp:revision>
  <dc:subject/>
  <dc:title>Слайд 1</dc:title>
</cp:coreProperties>
</file>