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7CA-E790-46D0-B02E-B93B4C82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4C37-4948-4CE2-B67D-0AF8FF42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708-2151-49C7-8E13-5EA239AE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813-7B2B-4B39-8216-9130E550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D1D5-195C-4BE5-BC94-7D47C241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3FC5-2CD2-441C-B8AC-CD55E133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F1B2-5D18-4BD1-8954-4AC9CA01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0FC6-0760-42C7-BF79-685B38B7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615B-50B9-45B0-A999-D79AB4FF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5657-D81C-4161-8333-BE6F86F1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06F7-7601-4CA1-ADD1-170D5713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5FA-8747-4FAC-A090-AE9033E1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A150-07FA-4AE0-8FA5-2A808463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8AE6-90ED-404E-9662-15BB5345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3935-0805-40D6-914F-DE30230E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E5F5-2BE1-451B-BC47-E35FBBB7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B660-A757-4B6C-A087-1372B592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16F-B9F6-4191-A1B5-899852E4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203-A03E-4960-88B3-945EBED7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3BC-9CD8-4E09-BC6C-9ACB18B5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65A-7AD7-41F1-BCD2-0AD49A5C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FE7-CFE8-4ACD-8591-F5AD9302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33A-A112-44E2-B736-19243FA4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7BC-5490-45DD-9A41-593A4DD1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AC19-081F-4E03-BB93-C4233AA826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E464-31F4-42B2-BACD-A7139FF52B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строение сетки осей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для построения на чертеже разбивочной сетки осе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667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71480" y="39322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строения на чертеже сетки осей необходимо указать количество горизонтальных и вертикальных осей, а также расстояние между ними. В случае необходимости сетку осей можно продолжить с другим шаг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343160" y="1152360"/>
            <a:ext cx="6661080" cy="26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сетки осе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1623960" y="1009800"/>
            <a:ext cx="6394680" cy="509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29:38Z</dcterms:modified>
  <cp:revision>300</cp:revision>
  <dc:subject/>
  <dc:title>Слайд 1</dc:title>
</cp:coreProperties>
</file>