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CEC-2D7A-47E4-AA68-5E15491B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10E-753F-4C72-8997-2E6463BF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1B3-D1A0-4E54-998F-D6616E60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229-48DB-4ED8-BD82-619DE3B5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764-B156-43EA-8CD6-82D2A228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318A-A151-4FF6-B5D8-9FAD06FA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0122-CA5A-4547-9D72-4FAFDFE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BB1A-5B97-43E9-BAAF-B80F7BD6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5298-B7AA-4A7D-9836-B8DAE697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67B6-B1FA-4F8C-A0D3-D9F900CA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F7E4-4226-4DEB-89AC-060C1A9A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97F0-F26A-432F-A74F-24CC36BE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420F-1CCD-46AC-9552-A7EFFA5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8AFB-ED92-446E-AEB7-3C431046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2DFC-4C00-4A1C-BC06-F40F05F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93D1-49D5-4E88-9DE8-49E64451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73AD-62F7-4EB8-91C4-FFD7B2C2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953-3075-428C-8564-87F8494D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7D2-8230-4F2B-BBC1-53AC2418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9D8-2C48-4FCB-A444-EC9CFCE7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D8A-1512-4DAF-8AC4-6F31345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C85-8FD4-4E1C-B7EE-C6221ABA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48A-C433-439F-9910-2F6ACB5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B10-9E06-42C9-BC33-37307D7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15FB-6E01-4748-B780-09B461FD61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D93D-E5D7-4B35-88B3-127D8A8B2A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онтроль качеств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организации контроля качества на разных стадиях проектирования и строительства, включая контроль качества производства отдельных строительно-монтажных работ. Программный модуль состоит из двух раздел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первом разделе представлены задачи, освещающие общие вопросы управления качеством строительной продукции, организации входного контроля проектно-сметной документации, контроля качества материалов, конструкций и изделий, операционный контроль качества, приемочный контроль, авторский надзор, технический надзор, государственный контроль качества строительства, организация служб технического контроля и строительных лабораторий, геодезический контроль, всего 10 задач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торой раздел содержит положения, отражающие вопросы контроля качества основных строительно-монтажных работ, включая работы, выполняемые грузоподъемными механизмами и работы подготовительного периода; всего 22 задач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85640" y="1271520"/>
            <a:ext cx="81727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16080" y="1668600"/>
            <a:ext cx="6931080" cy="20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09760" y="122220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, отражающей вопросы организации контроля качества строительств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04960" y="1362240"/>
            <a:ext cx="6265800" cy="27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36:36Z</dcterms:modified>
  <cp:revision>242</cp:revision>
  <dc:subject/>
  <dc:title>Слайд 1</dc:title>
</cp:coreProperties>
</file>